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2042-61C7-4181-8CC3-43564CEEF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остоятельная работа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046-AB51-4C4D-AE29-31862602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D89-2AC5-43F2-8D32-8A06F2D1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B3B-B6ED-4018-8D01-A19B1D28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E5D-45B1-4A06-B203-BE08B22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4C9-5AA2-4A8B-8152-E390C6A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285-AE34-4A3D-A196-B548E8BD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A57-BA97-4788-A74A-D4BC4AC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CAA-6272-47D9-81EA-631D66CE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44D-9420-43A6-BF88-E15781BF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651-3E85-4609-BA95-8E5C21F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95F-ED76-42E4-B3A0-11BE2BC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597-1C5E-40C3-8D8A-D9D0AF7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8B43-2209-490C-9DB0-0B469040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и функци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цова Е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цей №5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284720" cy="34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Лиственница"/>
          <p:cNvPicPr/>
          <p:nvPr/>
        </p:nvPicPr>
        <p:blipFill>
          <a:blip r:embed="rId2"/>
          <a:stretch/>
        </p:blipFill>
        <p:spPr>
          <a:xfrm>
            <a:off x="4284720" y="3429000"/>
            <a:ext cx="485928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1341360"/>
            <a:ext cx="40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общее свойство и строение листь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43480" y="538200"/>
            <a:ext cx="44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5002200"/>
            <a:ext cx="38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овите функцию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360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my_desktop-1130610918_i_3373_full.jpg"/>
          <p:cNvPicPr/>
          <p:nvPr/>
        </p:nvPicPr>
        <p:blipFill>
          <a:blip r:embed="rId2"/>
          <a:stretch/>
        </p:blipFill>
        <p:spPr>
          <a:xfrm>
            <a:off x="4067280" y="2924280"/>
            <a:ext cx="507672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08560" y="100008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7480" y="118584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ья содержат хлоропласты с хлорофил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460044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функцию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Утренняя свежесть"/>
          <p:cNvPicPr/>
          <p:nvPr/>
        </p:nvPicPr>
        <p:blipFill>
          <a:blip r:embed="rId1"/>
          <a:stretch/>
        </p:blipFill>
        <p:spPr>
          <a:xfrm>
            <a:off x="0" y="0"/>
            <a:ext cx="4211640" cy="366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11640" y="3570120"/>
            <a:ext cx="4932360" cy="3287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71840" y="1258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1840" y="1401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даляет избыток влаги в виде капелек- свойство гут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4714920"/>
            <a:ext cx="36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лаксы: монстера, бальзамин, диффенба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my_desktop-1130610850_i_4978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5722920"/>
            <a:ext cx="86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енние листья накапливают и выносят ненужные минераль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3 тыквы в тауттсмандорф парке. мерано"/>
          <p:cNvPicPr/>
          <p:nvPr/>
        </p:nvPicPr>
        <p:blipFill>
          <a:blip r:embed="rId1"/>
          <a:stretch/>
        </p:blipFill>
        <p:spPr>
          <a:xfrm>
            <a:off x="1979640" y="1528920"/>
            <a:ext cx="4753080" cy="356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9840" y="682560"/>
            <a:ext cx="85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свойство видоизмененных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7120" y="5938920"/>
            <a:ext cx="61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овите их фун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16360" y="3894120"/>
            <a:ext cx="4427640" cy="296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59280" y="148428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общее свойство и строение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471492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овите функцию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5:55:01Z</dcterms:created>
  <dc:creator>Кузнецова</dc:creator>
  <dc:description/>
  <dc:language>en-US</dc:language>
  <cp:lastModifiedBy>User</cp:lastModifiedBy>
  <dcterms:modified xsi:type="dcterms:W3CDTF">2007-07-06T19:03:52Z</dcterms:modified>
  <cp:revision>10</cp:revision>
  <dc:subject/>
  <dc:title>Презентация урока  Свойства и функции листа</dc:title>
</cp:coreProperties>
</file>