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73B-CA3C-4D52-83E1-5E9017F5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689-785E-4216-A354-43C004C3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C4F-CC65-47D9-AA4A-FF602E2D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BA8-69E7-4DB5-8911-C1C9F611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27CE-A141-47E4-BEA8-F6318AE7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DEE7-0EEA-41C5-93D2-FD2E2092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CED0-2F4A-4328-B59E-320527F7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A64B-2EBC-4CEF-8955-21958B87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F02D-6CA6-4B7B-834C-2D1DBDA1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2BEE-9347-4B6B-8FAA-F73B87D9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9F77-1E27-4E3D-B445-CDD34E49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75F-EEB8-4C2B-8D16-B133C578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6C31-C943-4185-824F-545C85F8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4FCC-61A6-468D-9F55-D292EE1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1EDA-1DA3-4A28-AA3B-4B1DB9F9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713D-E7E6-4B43-9177-7BA75B24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F440-61F4-46A6-8ACC-A56E8DB6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DC6-5E24-474C-828F-6DF54A2A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E1E-B8B2-4B35-A4A3-95DE61B4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025-7463-4E2C-B2C3-0964240F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EF2-DE1F-4352-9BDF-65F99919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A36-23A6-48FD-A7DA-B34211D6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9D3-6204-41D7-A732-8B00043D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CE8-C47F-4B2B-AB72-AC813063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AC49-64CF-48D1-876C-29DE486933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5025-B53C-4A05-AC28-79CEE4EE18C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lowerciv.org/fiziolog.php" TargetMode="External"/><Relationship Id="rId2" Type="http://schemas.openxmlformats.org/officeDocument/2006/relationships/hyperlink" Target="http://www.eco.nw.ru/lib/data/07/8/020807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Испарение воды листьям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Презентация урока по курсу ботаник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16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овторение важнейших физиологических процесс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4038480" cy="2189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ыполнить задание на дидактических карточках по колонка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648320" y="1600200"/>
          <a:ext cx="4038480" cy="22208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адание 1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исать опыт, выясняющий значение света для образования крахмала в листьях. Нарисовать и обозначить детали строения кожицы листа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" y="3941640"/>
          <a:ext cx="4038480" cy="2189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адание 2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исать опыт, выясняющий дыхание листьев. Сделать схематический рисунок строения мякоти листа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648320" y="3941640"/>
          <a:ext cx="4038480" cy="21891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адание 3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дготовить устный ответ о значении зеленых растений. Зарисовать устьичные клетки, объяснить их значение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Выводы по результатам ответ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Фотосинтез и дыхание – важнейшие физиологические процессы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Листья выполняют и функцию испарения вод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а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ыяснить значение испарения для растений и от чего зависит количество испаряемой вод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спарение воды листьями раст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Опыты проводились во внеурочное время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Результаты опытов оформляются в виде таблицы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Сделать вывод о зависимости испаренной воды от внешних фактор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0" y="2637000"/>
          <a:ext cx="4249800" cy="2549520"/>
        </p:xfrm>
        <a:graphic>
          <a:graphicData uri="http://schemas.openxmlformats.org/drawingml/2006/table">
            <a:tbl>
              <a:tblPr/>
              <a:tblGrid>
                <a:gridCol w="1346400"/>
                <a:gridCol w="1386000"/>
                <a:gridCol w="1517400"/>
              </a:tblGrid>
              <a:tr h="12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оличество испаряемой вод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емпература вод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емпература воздух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руговорот воды в природе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Картинка 1 из 1"/>
          <p:cNvPicPr/>
          <p:nvPr/>
        </p:nvPicPr>
        <p:blipFill>
          <a:blip r:embed="rId1"/>
          <a:stretch/>
        </p:blipFill>
        <p:spPr>
          <a:xfrm>
            <a:off x="826920" y="884160"/>
            <a:ext cx="7632720" cy="3909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Испарение воды очень важный физиологический процесс, способствующий охлаждению растений. Испарение воды регулирует корневое давление. Растение испаряет 80-90% воды, поглощенной корнем. Испарение происходит через открытые устьица, поэтому испарение в течении суток осуществляется неравномерно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Задание на дом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flowerciv.org/fiziolog.ph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ыписать с сайта дополнительную информацию о транспирац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формить в виде опорного конспекта в тетрад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оставить кроссворд используя новые термин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Задание повышенной слож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eco.nw.ru/lib/data/07/8/020807.ht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азгадать кроссворд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18:47:36Z</dcterms:created>
  <dc:creator>Senkov</dc:creator>
  <dc:description/>
  <dc:language>en-US</dc:language>
  <cp:lastModifiedBy>Senkov</cp:lastModifiedBy>
  <dcterms:modified xsi:type="dcterms:W3CDTF">2007-06-27T17:27:46Z</dcterms:modified>
  <cp:revision>19</cp:revision>
  <dc:subject/>
  <dc:title>Испарение воды листьями</dc:title>
</cp:coreProperties>
</file>