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wmf" ContentType="image/x-wmf"/>
  <Override PartName="/ppt/media/image3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14.jpeg" ContentType="image/jpeg"/>
  <Override PartName="/ppt/media/image8.png" ContentType="image/png"/>
  <Override PartName="/ppt/media/image7.jpeg" ContentType="image/jpeg"/>
  <Override PartName="/ppt/media/image13.png" ContentType="image/png"/>
  <Override PartName="/ppt/media/image10.gif" ContentType="image/gi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0B0F-7881-454C-84EC-9B372AAEA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52F9-931C-46C8-A4F3-578DE8FEF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A184-3B9D-4175-983B-3BEDFEFE7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7A98-60B6-40CB-A532-35C631D66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40DF9-79DD-42DC-8FC7-C1CE82F04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87CFC-35B9-4EE1-ACE2-989A5CBE6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A4ACD-B7B1-43ED-A27D-7D091A977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315B7-7AC7-4023-87A3-F4CFF7AB1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DA172-B5D3-4650-998D-1783F652E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A7CE6-FC5A-48A2-B5A4-2170DFDBF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F37BD-9CD5-46C2-826D-F9C17C12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E70C-AC96-46C6-964E-6307BB33D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3BB63-0486-40C0-834B-C1B49ED2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B0F91-A149-48FC-B1D7-552120DC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672BD-F3E0-4C76-AE0D-D2DADF811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877C8-A0B3-4208-8B12-BE4B741AA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78B9C-F4CF-489A-93FF-D831F9994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CD653-369A-482A-BA73-092FBD131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E181E-97E4-4B3F-A2F3-0539500D9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267C6-2735-4EE3-A28F-765FB4C04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78454-8D2B-404B-92C0-09686363A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C4441-B82E-4CF0-A88A-5F32B9888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E147-8744-473F-956F-38C90496F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92B9A-6BB7-4DA8-A1DD-0FFAE0B59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D98EA-35F1-43B2-B04B-4D2FC9ED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C1086-3ACD-42F2-A760-181E55C6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715A0-D478-4961-9083-1CD29539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13F60-DE99-43EC-A85D-0993E32D2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BEE32-AF20-4339-9BCB-5470A86D0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5FAA6-7C4D-40A8-9FCD-9F73B8B68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87141-194E-4598-80F6-B1847AB4A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083EE-39A5-45EE-85F7-EBE1A5199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901C4-59A0-4D4A-BD80-C05F80F64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C028-9047-4183-A090-969AF5679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072A5-A6D3-4BB4-A3F1-8549A3A2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4558D-8447-499C-BFBF-692AF6543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2E6E5-83CB-4304-84EC-E01D29172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BE882-E077-4589-8432-C6482B6F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B8EC2-3A21-478B-9822-9E16D051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626F5-2401-4BCE-A3C1-92E835F3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0FF9D-E58E-4E59-B579-65FC305AC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0FDE1-FC67-4772-81D7-5918FD47E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0CDCD-5008-4D32-8F5F-664761686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88A47-6D93-4D78-8052-314231C15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0088-9E3D-491A-9DD5-B9F7FBCFF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D5C71-F48F-4D32-AD57-9F74557F1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739B5-D2F8-4800-AF2A-7FDE9DF59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87B75-D573-4098-B51C-50709DCE3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BAF1F-81F9-4ADB-B4F4-6CAF993C1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D190A-9634-4B9E-A868-09107A7D2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87BBF-81DC-4DBF-99AF-79FE764C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A94AE-2DB2-4A4B-B75C-81ABF157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55105-E43A-4B9C-B382-D5678CBA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72C99-4B74-4184-BE7E-ED4AB9857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BE1E8-2FDA-4469-8840-84299A2B5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2D0A-B2E5-4678-831A-EBE03CDBC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B8A10-C6B9-4901-93C6-5A0F18C9C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941E-EADC-4BF5-AF4D-0C575F7B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BEE4-AF45-4387-ACFB-0B576A04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00AE-7954-4973-A249-CCF15833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CAA3F-7D4C-4934-B8AA-E8139CEDDFBC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5F1B6-4CCA-48A9-B607-FA7FE85069D7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77E80-E317-4927-B138-576912E45655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3BE08-3A0F-4FE8-BF68-CDEB1E84C87D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A7157-15D0-4AB0-84ED-A54A110F2188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avege.ru/avegemain/createmail/imgcreate/mail03.png" TargetMode="External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10.gi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mobilnik.ua/catalog/images/x140.gif" TargetMode="Externa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Means of Communication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Proj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4" descr="D:\Мои документы\Информатика\English\1.jpg"/>
          <p:cNvPicPr/>
          <p:nvPr/>
        </p:nvPicPr>
        <p:blipFill>
          <a:blip r:embed="rId1"/>
          <a:stretch/>
        </p:blipFill>
        <p:spPr>
          <a:xfrm>
            <a:off x="500040" y="4052880"/>
            <a:ext cx="1279440" cy="12682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D:\Мои документы\Информатика\English\2.jpg"/>
          <p:cNvPicPr/>
          <p:nvPr/>
        </p:nvPicPr>
        <p:blipFill>
          <a:blip r:embed="rId2"/>
          <a:stretch/>
        </p:blipFill>
        <p:spPr>
          <a:xfrm>
            <a:off x="2292480" y="4089240"/>
            <a:ext cx="1279440" cy="12686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D:\Мои документы\Информатика\English\3.jpg"/>
          <p:cNvPicPr/>
          <p:nvPr/>
        </p:nvPicPr>
        <p:blipFill>
          <a:blip r:embed="rId3"/>
          <a:stretch/>
        </p:blipFill>
        <p:spPr>
          <a:xfrm>
            <a:off x="4078440" y="4071960"/>
            <a:ext cx="1279440" cy="12682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7" descr="D:\Мои документы\Информатика\English\4.jpg"/>
          <p:cNvPicPr/>
          <p:nvPr/>
        </p:nvPicPr>
        <p:blipFill>
          <a:blip r:embed="rId4"/>
          <a:stretch/>
        </p:blipFill>
        <p:spPr>
          <a:xfrm>
            <a:off x="5864400" y="4071960"/>
            <a:ext cx="127944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Exampl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39640" y="475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1000"/>
          </a:bodyPr>
          <a:p>
            <a:pPr marL="240840" indent="-2408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got myself a PIMP xda Graphite Smartphone the other da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40840" indent="-2408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40840" indent="-2408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t's fantastic for watching videos on in full screen, however all my videos are like 50+ MB and some big resolution which really isn't necessary on the phon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40840" indent="-2408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40840" indent="-2408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've used media player movie maker to compress squince's 6th vid and using the default setting for windows pocket PC (fullscreen 218Kbs) gives a resolution of 320x240 and keep the audio quality nice to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40840" indent="-2408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40840" indent="-2408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s there any other software out there which can do what im after in a smaller package than WMM? It's such hassle having to import the vid first and then save it as a movie agai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40840" indent="-2408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40840" indent="-2408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tried the nokia multimedia convertor but it broke the aspect ratio and won't work in full screen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503280" y="529920"/>
            <a:ext cx="8183520" cy="41878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" descr="D:\Мои документы\Информатика\English\Picture 3 copy.jpg"/>
          <p:cNvPicPr/>
          <p:nvPr/>
        </p:nvPicPr>
        <p:blipFill>
          <a:blip r:embed="rId2"/>
          <a:stretch/>
        </p:blipFill>
        <p:spPr>
          <a:xfrm>
            <a:off x="395280" y="147600"/>
            <a:ext cx="8388360" cy="67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Exampl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Krisboats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“You'll be wanting a program called M3 made by someone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calle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mysh. Its the best at changing ratios for phones. Super easy to use, only quite hard to track dow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you add me to msn i can send you the 8mb installer for it. I can't seem to find a link to a current host anywhere on the internet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Jake1516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 “Cheers Kris, Tried using that one you linked to Janson but I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dun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which of the settings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im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looking for.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Картинка 18 из 26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8000" y="404640"/>
            <a:ext cx="8893080" cy="61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Basic email phrases taken from email English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500120" y="571680"/>
            <a:ext cx="3857760" cy="4389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rmal/Neutr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ar Mr/Mrs/Ms Smit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ar Mar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ank you for your email of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rther to your last email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apologies for not getting in contact with you before now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286240" y="610920"/>
            <a:ext cx="340056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form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i/Hello Mar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ry,… (or no name at al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anks for your email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 your email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rry I haven’t written for ages, but I’ve been really busy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Содержимое 8"/>
          <p:cNvSpPr/>
          <p:nvPr/>
        </p:nvSpPr>
        <p:spPr>
          <a:xfrm>
            <a:off x="0" y="571680"/>
            <a:ext cx="2000160" cy="43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vious cont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Basic email phrases taken from email English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500120" y="571680"/>
            <a:ext cx="4286160" cy="4389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9000"/>
          </a:bodyPr>
          <a:p>
            <a:pPr marL="262080" indent="-262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rmal/Neutr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1800" indent="-19764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am writing in connection with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1800" indent="-19764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reply to your email, here are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1800" indent="-19764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Your name was given to me by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1800" indent="-19764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 would like to point out that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1800" indent="-19764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uld you give me some information about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1800" indent="-19764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would like to know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1800" indent="-19764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’m interested in finding out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286240" y="610920"/>
            <a:ext cx="340056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form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ust a short note about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re’s the… you want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got your name from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ease note that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n you tell me a little more about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’d like to know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ease send me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Содержимое 8"/>
          <p:cNvSpPr/>
          <p:nvPr/>
        </p:nvSpPr>
        <p:spPr>
          <a:xfrm>
            <a:off x="0" y="571680"/>
            <a:ext cx="2071800" cy="43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son for wri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k for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Basic email phrases taken from email English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500120" y="571680"/>
            <a:ext cx="4286160" cy="4389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rmal/Neutr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’d be grateful if you could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wonder if you could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ank you in advance for your help in this matt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ould you like me…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t me know whether you would like me to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286240" y="571680"/>
            <a:ext cx="3400560" cy="4389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form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ease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uld you…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’d appreciate your help on th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o you want me to…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t me know if you’d like me to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Содержимое 8"/>
          <p:cNvSpPr/>
          <p:nvPr/>
        </p:nvSpPr>
        <p:spPr>
          <a:xfrm>
            <a:off x="0" y="571680"/>
            <a:ext cx="2071800" cy="43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qu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fer he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Basic email phrases taken from email English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500120" y="571680"/>
            <a:ext cx="4143600" cy="4389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9000"/>
          </a:bodyPr>
          <a:p>
            <a:pPr marL="262080" indent="-262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rmal/Neutr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1800" indent="-19764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1800" indent="-19764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ank you for your help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1800" indent="-19764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o not hesitate to contact us again if you require any further inform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1800" indent="-19764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ease fell free to contact me if you have any questions. My direct line is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1800" indent="-19764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1800" indent="-19764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am looking forward to…(+~ing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1800" indent="-19764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st wish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1800" indent="-19764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gard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5286240" y="571680"/>
            <a:ext cx="3571920" cy="4389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8000"/>
          </a:bodyPr>
          <a:p>
            <a:pPr marL="259560" indent="-2595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form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9548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95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anks again for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95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t me know if yo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95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ed anything els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95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ust give me a call if you have any questions. My number is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95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95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95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oking forward to …(+~ing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95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ak to/See you so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95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ye(for now) All the bes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Содержимое 8"/>
          <p:cNvSpPr/>
          <p:nvPr/>
        </p:nvSpPr>
        <p:spPr>
          <a:xfrm>
            <a:off x="0" y="571680"/>
            <a:ext cx="2071800" cy="43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nal 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9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3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7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1" dur="5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5" dur="5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9" dur="500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3" dur="500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7" dur="500"/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/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1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5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9" dur="5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3" dur="5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7" dur="500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1" dur="500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5" dur="500"/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/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9" dur="500"/>
                                        <p:tgtEl>
                                          <p:spTgt spid="2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/>
                                        <p:tgtEl>
                                          <p:spTgt spid="2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3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755640" y="1673280"/>
          <a:ext cx="7777080" cy="1863720"/>
        </p:xfrm>
        <a:graphic>
          <a:graphicData uri="http://schemas.openxmlformats.org/drawingml/2006/table">
            <a:tbl>
              <a:tblPr/>
              <a:tblGrid>
                <a:gridCol w="4752720"/>
                <a:gridCol w="3024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ре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ttp://www.som.fsio.ru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тограф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ttp://www.ciospbappo.narod.ru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артинки на титульный  лис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>
            <a:off x="2627280" y="256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124000" y="73656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спользуемые ресур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8082000" y="4862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55640" y="4049640"/>
            <a:ext cx="181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ИТЕРАТУР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87600" y="4552920"/>
            <a:ext cx="58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er Intermediate,Macmillan ,Malcolm Ma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rix Intermediate,Oxford University Press,Kathy G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. Means of Commun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ody languag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hon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bile phon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pute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Interne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-mai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t-room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ext-messag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508720" y="1268280"/>
            <a:ext cx="2574720" cy="26146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4572000" y="4508640"/>
            <a:ext cx="1368360" cy="12967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6732720" y="4149720"/>
            <a:ext cx="1511280" cy="18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How computer–literate are you?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vide these words into two group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arts of a comput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ngs you can do, send, and receive on a comput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24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Go on-line, electronic mail, monitor, website, digital messages, download, mouse, log on, keyboard, log off, clip art, printer, surf the Net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348000" y="3789360"/>
            <a:ext cx="172872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How computer–literate are you?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14080" y="529920"/>
            <a:ext cx="393228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ts of a compu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lvl="2" marL="2667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, mouse, keyboard, printer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2667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756320" y="529920"/>
            <a:ext cx="393048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ngs you can do, send, and receive on a compu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 on-line, electronic mail, , website, digital messages, download, log on, , log off, clip art, surf the Ne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Your Guide to ‘cyber-English’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796464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7f09"/>
                </a:solidFill>
                <a:latin typeface="Verdana"/>
              </a:rPr>
              <a:t>Informal text mess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08040" y="1447920"/>
            <a:ext cx="3930480" cy="3489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7000"/>
          </a:bodyPr>
          <a:p>
            <a:pPr marL="256680" indent="-256680" algn="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mb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256680" indent="-256680" algn="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56680" indent="-256680" algn="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56680" indent="-256680" algn="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56680" indent="-256680" algn="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56680" indent="-256680" algn="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56680" indent="-256680" algn="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56680" indent="-256680" algn="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on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56680" indent="-256680" algn="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oi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56680" indent="-256680" algn="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an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56680" indent="-256680" algn="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653000" y="1447920"/>
            <a:ext cx="3930480" cy="3489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7000"/>
          </a:bodyPr>
          <a:p>
            <a:pPr marL="256680" indent="-2566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ocabula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yo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/to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oing 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o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ant 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your/ you’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" descr="Картинка 9 из 104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1628640"/>
            <a:ext cx="253836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Your Guide to ‘cyber-English’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796464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7f09"/>
                </a:solidFill>
                <a:latin typeface="Verdana"/>
              </a:rPr>
              <a:t>Informal text mess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08040" y="1447920"/>
            <a:ext cx="3930480" cy="3489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7000"/>
          </a:bodyPr>
          <a:p>
            <a:pPr marL="256680" indent="-256680" algn="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mb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 algn="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8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 algn="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 algn="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ni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 algn="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/no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 algn="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uv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 algn="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@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 algn="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 algn="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 algn="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-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 algn="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-(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653000" y="1447920"/>
            <a:ext cx="3930480" cy="3489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7000"/>
          </a:bodyPr>
          <a:p>
            <a:pPr marL="256680" indent="-2566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ocabula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meth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nigh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terno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v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a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31000" indent="-19368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Your Guide to ‘cyber-English’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796464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7f09"/>
                </a:solidFill>
                <a:latin typeface="Verdana"/>
              </a:rPr>
              <a:t>Informal text mess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08040" y="1447920"/>
            <a:ext cx="3930480" cy="3489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7000"/>
          </a:bodyPr>
          <a:p>
            <a:pPr marL="256680" indent="-256680" algn="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mb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 algn="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 algn="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 algn="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nn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 algn="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ai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 algn="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 algn="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 algn="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m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 algn="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L or Lo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 algn="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OTF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 algn="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TW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653000" y="1447920"/>
            <a:ext cx="3930480" cy="3489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7000"/>
          </a:bodyPr>
          <a:p>
            <a:pPr marL="256680" indent="-2566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ocabula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ye bye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ood luc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on’t know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s far as I know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 probl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a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h my god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ugh out loud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oll on the floor laugh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y the wa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7f09"/>
                </a:solidFill>
                <a:latin typeface="Verdana"/>
              </a:rPr>
              <a:t>Example: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u @ 8!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Articles, pronouns, auxiliary verbs and prepositions are often left ou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For exampl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am in a meeting @ the mo” means “I am in a meeting at the moment.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should arrive Tues” means “I should arrive on Tuesday.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u gonna come with us?” means “Are you going to come with us?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503280" y="529920"/>
            <a:ext cx="8183520" cy="41878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" descr="D:\Мои документы\Информатика\English\Picture 1 copy.jpg"/>
          <p:cNvPicPr/>
          <p:nvPr/>
        </p:nvPicPr>
        <p:blipFill>
          <a:blip r:embed="rId2"/>
          <a:stretch/>
        </p:blipFill>
        <p:spPr>
          <a:xfrm>
            <a:off x="1214280" y="452520"/>
            <a:ext cx="681048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1T18:41:26Z</dcterms:created>
  <dc:creator>User</dc:creator>
  <dc:description/>
  <dc:language>en-US</dc:language>
  <cp:lastModifiedBy>Пашковская</cp:lastModifiedBy>
  <dcterms:modified xsi:type="dcterms:W3CDTF">2007-06-29T08:41:30Z</dcterms:modified>
  <cp:revision>42</cp:revision>
  <dc:subject/>
  <dc:title>Means of Communication</dc:title>
</cp:coreProperties>
</file>