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FE4-0634-4662-A2F6-565B68895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791-015F-49FC-822F-2D0ACB38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611-29DE-43D6-BF1D-89444D25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741-42AE-4129-BDD4-54538E39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E02-94F6-4E73-82E2-C07CA460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A19-F6E5-489B-BD6A-B18C41E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855-1413-42A0-8933-E8C98A81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54E-ECCA-45C7-AE79-B1F4C3D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158-66FD-4A41-AD40-8F9267F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760-717B-435C-9BA4-050F038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E48-B13D-47E2-9776-755FEE4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369-03EF-432C-991D-362BD98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F72-AD12-448C-9D40-B5AB64E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87AC-6321-4D74-8A84-312B999F6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84;&#1086;&#1103;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info.ru/news/2005/12/zodiac_op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TS of C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rases for recommending and making sugg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/she could/ ought to/ should 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 suggest + -ing form or 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+ -ing form or no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bout + - ing form or no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d say that + -ing form or noun is a good/bad idea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d recommend him/her + -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’d recommend (that)she /he + 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she / he + Present Simple or Simple Pas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ибл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er Intermediate Malcolm Mann, MacMillan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ford Advanced Learner’s Dictionary of Current English, Oxford University Press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zodia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a in the sky in which the sun, moon and planets appear to lie and which has been divided into twelve equal parts, each with a special name and sym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Ваша натальная карт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619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twelve signs of the zod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5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144792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oscope – a description of what is going to happen to somebody in the future, based on the position of the stars and the planets when the person was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RIUS January 21 – February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SCES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 – March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rch 21 – April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RU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1 – May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IN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22 – June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2 -  Ju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IG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4- August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O August 24 – Septemb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 September 24 – October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PIO October 24 – Novemb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GITARI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3 – Dec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RICORN December 22- January 2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r lucky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16040" y="1727280"/>
            <a:ext cx="4111920" cy="3962160"/>
            <a:chOff x="2516040" y="1727280"/>
            <a:chExt cx="4111920" cy="3962160"/>
          </a:xfrm>
        </p:grpSpPr>
        <p:sp>
          <p:nvSpPr>
            <p:cNvPr id="67" name="_s18449"/>
            <p:cNvSpPr/>
            <p:nvPr/>
          </p:nvSpPr>
          <p:spPr>
            <a:xfrm flipH="1" flipV="1">
              <a:off x="3557160" y="3530160"/>
              <a:ext cx="5079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8"/>
            <p:cNvSpPr/>
            <p:nvPr/>
          </p:nvSpPr>
          <p:spPr>
            <a:xfrm>
              <a:off x="251604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r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7"/>
            <p:cNvSpPr/>
            <p:nvPr/>
          </p:nvSpPr>
          <p:spPr>
            <a:xfrm flipH="1">
              <a:off x="3943080" y="4292640"/>
              <a:ext cx="315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6"/>
            <p:cNvSpPr/>
            <p:nvPr/>
          </p:nvSpPr>
          <p:spPr>
            <a:xfrm>
              <a:off x="3098880" y="462276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5"/>
            <p:cNvSpPr/>
            <p:nvPr/>
          </p:nvSpPr>
          <p:spPr>
            <a:xfrm>
              <a:off x="4884840" y="4292640"/>
              <a:ext cx="31428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4"/>
            <p:cNvSpPr/>
            <p:nvPr/>
          </p:nvSpPr>
          <p:spPr>
            <a:xfrm>
              <a:off x="4979880" y="462276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b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8443"/>
            <p:cNvSpPr/>
            <p:nvPr/>
          </p:nvSpPr>
          <p:spPr>
            <a:xfrm flipV="1">
              <a:off x="5078520" y="3532320"/>
              <a:ext cx="50940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8442">
              <a:hlinkClick r:id="" action="ppaction://hlinkshowjump?jump=nextslide"/>
            </p:cNvPr>
            <p:cNvSpPr/>
            <p:nvPr/>
          </p:nvSpPr>
          <p:spPr>
            <a:xfrm>
              <a:off x="5560920" y="283356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8441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8440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 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8439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TS OF CHARAC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опильская</cp:lastModifiedBy>
  <dcterms:modified xsi:type="dcterms:W3CDTF">2007-06-29T06:52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