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7D6-C095-4452-A82E-8037C897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C46-C883-4DB5-91BA-24821379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FB4-1BEF-47E3-9F78-1E333534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656-2367-4AB9-91BB-EF88F9A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BE4-918C-40DB-99A0-40A374A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771-7286-4145-9C50-8DAAD07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ED0-2BEE-460E-8693-0D964DAA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0B5-8659-499F-9681-E971BE2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EA3-C3F1-4D3A-A0F1-0E1CAED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E88-94DD-4EC4-B433-6E458D6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A7E-5EE1-432A-B922-F214D22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AF4-E6CF-46AF-9AD9-6413BBA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7C24-0F5B-46E4-87DC-8A01AA826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и в Санкт-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географии Каргина С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а – красота 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717640" cy="232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3000600" cy="283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52720" y="1844640"/>
            <a:ext cx="1354320" cy="182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16000" y="450864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916360" y="4653000"/>
            <a:ext cx="1841400" cy="149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300800" y="4365720"/>
            <a:ext cx="1843200" cy="187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292720" y="4437000"/>
            <a:ext cx="18288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упнейшие природные техногенные катастроф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844640"/>
          <a:ext cx="7070760" cy="457200"/>
        </p:xfrm>
        <a:graphic>
          <a:graphicData uri="http://schemas.openxmlformats.org/drawingml/2006/table">
            <a:tbl>
              <a:tblPr/>
              <a:tblGrid>
                <a:gridCol w="2513160"/>
                <a:gridCol w="1519200"/>
                <a:gridCol w="1519200"/>
                <a:gridCol w="1519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9840" y="639720"/>
            <a:ext cx="613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экологической безопас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агрязнение воздуха и образование кислотных дож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розия почв и обезлес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агрязнение 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1828800" cy="184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87280" y="4076640"/>
            <a:ext cx="1533600" cy="169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36760" y="4078440"/>
            <a:ext cx="4562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3480" y="2513520"/>
            <a:ext cx="63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отмечает цветные круги в соответствии с вопросами учителя на игровом п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76280"/>
          <a:ext cx="6710400" cy="3638880"/>
        </p:xfrm>
        <a:graphic>
          <a:graphicData uri="http://schemas.openxmlformats.org/drawingml/2006/table">
            <a:tbl>
              <a:tblPr/>
              <a:tblGrid>
                <a:gridCol w="2659320"/>
                <a:gridCol w="2025360"/>
                <a:gridCol w="2025720"/>
              </a:tblGrid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71640" y="5118120"/>
            <a:ext cx="18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471492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4760" y="4456080"/>
            <a:ext cx="85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ить цветными кружками в соответствии с вопросом учителя на игр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правильные от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6825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е р м и н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052640"/>
            <a:ext cx="8119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ая 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он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обальное пот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лотные до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зле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ап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тр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стиц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усты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розия поч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Ядерная зи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484280"/>
            <a:ext cx="1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э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5:48:47Z</dcterms:created>
  <dc:creator>Каргина</dc:creator>
  <dc:description/>
  <dc:language>en-US</dc:language>
  <cp:lastModifiedBy>User</cp:lastModifiedBy>
  <dcterms:modified xsi:type="dcterms:W3CDTF">2007-07-06T18:58:07Z</dcterms:modified>
  <cp:revision>12</cp:revision>
  <dc:subject/>
  <dc:title>Презентация урока Экологическая ситуация в России и в Санкт-Петербурге</dc:title>
</cp:coreProperties>
</file>