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ED7-F347-4298-B4F5-FBD5C0CE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1D9-40C1-4695-8F1B-7F2FA591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27F-117A-4AD2-96D3-A32AC07E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BDE6-89D0-4779-B611-97BE8EE4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73A0-024B-47FA-86ED-F2D2B8CF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36C-9253-4CEF-A175-07F40179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0E5E-60CC-43D2-B532-82177D4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BD2F-49F3-4B6E-83CC-568AE97F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93DA-919F-4785-A5FD-E3FA679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A176-4DCD-4227-88FC-8E592DD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0B5F-010E-4212-B833-35F79DD5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51F-7798-4985-9B8E-7A78BE09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2B87-8135-4827-B624-F49A24ED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1650-3C3B-40A7-814E-2C51564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1A02-BFBD-4123-9234-2F61EB12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11FB-098B-43B8-A08B-78B9CBF6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5477-2D02-4D39-BE26-8838CA6E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82A-6E70-46F1-A1ED-EE92348C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337-A74B-4ABE-B58B-8D7B81AF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226-A48B-43FD-A03B-C323ADC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E89-8876-4BFD-96FF-2FD25BD4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7FB-2871-4121-8ED0-FAB5182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BFF-9BB4-4ECD-A6D5-3048E0F5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42D-862C-44C9-98E5-A1B2C99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95A0-D390-496A-AC9D-8B9479B32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A3A-20F8-42A0-AF6C-8FE035C11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utevnik.ru/item/94" TargetMode="External"/><Relationship Id="rId2" Type="http://schemas.openxmlformats.org/officeDocument/2006/relationships/hyperlink" Target="http://www.nature.web.ru/" TargetMode="External"/><Relationship Id="rId3" Type="http://schemas.openxmlformats.org/officeDocument/2006/relationships/hyperlink" Target="http://www.nature.web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788000" y="5516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а учитель географии лицея №590 Вдовина В. 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4360" y="2205000"/>
            <a:ext cx="79912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b1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Воды Мирового океан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b1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801880" cy="2185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762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ировой океан оказывает влияние на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кеан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является источником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полезных ископаем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нимает на свои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берега миллионы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отдыхающих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Это самая просторная в мире дорога, связывающая материк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356000" y="1268280"/>
            <a:ext cx="230364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чв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тельный и животный мир суш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вои зн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бери правильный отв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движении от полюсов к экватору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верхностных вод Мирового океа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)пониж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)не изменя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)повыш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Каким образом и в связи с чем изменяетс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кеанской воды с глуби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  <a:ea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Где соленость воды выш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коло Антарктиды или в Северном Ледовитом океане. Ответ объяснить. В каких единицах измеряется соленость во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Arial"/>
                <a:ea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Что такое водная масс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228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putevnik.ru/item/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nature.web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географии для 6класса под редакцией Т.П.Герасимо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географии  для 7класса под редакцией В.А.Корин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Цели и задач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 значении Мирового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овать по картам свойства вод Мирового оке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елать выводы, используя полученные данны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59280" y="2246040"/>
            <a:ext cx="562752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ртограф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тис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60732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частицы Океана:</a:t>
            </a: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лака в неб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жд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нег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и и озер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796000" y="69228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1400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Температура вод Мирового океан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поверхности вод неодинакова и зависит от географической шир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воды в океане изменяется с глуби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лубинах около 3-4 тыс.м температура воды от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о 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Соленость воды Мирового океа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19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кеаническая вода – раство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19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еность воды зависит от соотношения атмосферных осадков и испар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19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ньше соленость там, где велик приток речных вод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19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личество граммов веществ, растворенных в 1литре воды, называют соленостью. Соленость измеряется в промилле и обозначается знаком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19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емпература замерзания соленой воды – (-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˚)-(-2˚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68360" y="4149720"/>
          <a:ext cx="8229600" cy="227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еность вод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р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ренце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р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4427640" cy="31161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дные мас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4103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лич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ле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т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зрач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140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ислород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ьды в Мировом океа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1989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20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должительность существ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19890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78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арактер подвиж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492360"/>
            <a:ext cx="24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олет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олет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35640" y="3564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подвиж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ейфующ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8557200">
            <a:off x="2771640" y="1412640"/>
            <a:ext cx="1224000" cy="431640"/>
          </a:xfrm>
          <a:prstGeom prst="rightArrow">
            <a:avLst>
              <a:gd name="adj1" fmla="val 50000"/>
              <a:gd name="adj2" fmla="val 7089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025600">
            <a:off x="4716360" y="1412640"/>
            <a:ext cx="1224000" cy="431640"/>
          </a:xfrm>
          <a:prstGeom prst="rightArrow">
            <a:avLst>
              <a:gd name="adj1" fmla="val 50000"/>
              <a:gd name="adj2" fmla="val 7089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5400000">
            <a:off x="1438560" y="3000960"/>
            <a:ext cx="897120" cy="390600"/>
          </a:xfrm>
          <a:prstGeom prst="rightArrow">
            <a:avLst>
              <a:gd name="adj1" fmla="val 50000"/>
              <a:gd name="adj2" fmla="val 5741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6190200" y="3034440"/>
            <a:ext cx="896760" cy="390600"/>
          </a:xfrm>
          <a:prstGeom prst="rightArrow">
            <a:avLst>
              <a:gd name="adj1" fmla="val 50000"/>
              <a:gd name="adj2" fmla="val 5739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Айсбер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ьды, отколовшиеся от ледников суши, плавающие в океане и состоящие из чистейшей пресной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014800" y="1600200"/>
            <a:ext cx="330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8:42:22Z</dcterms:created>
  <dc:creator>Cot-Pilot</dc:creator>
  <dc:description/>
  <dc:language>en-US</dc:language>
  <cp:lastModifiedBy>Вдовина</cp:lastModifiedBy>
  <dcterms:modified xsi:type="dcterms:W3CDTF">2007-06-29T05:42:41Z</dcterms:modified>
  <cp:revision>21</cp:revision>
  <dc:subject/>
  <dc:title>Презентация урока </dc:title>
</cp:coreProperties>
</file>