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10.png" ContentType="image/png"/>
  <Override PartName="/ppt/media/image5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png" ContentType="image/png"/>
  <Override PartName="/ppt/media/image13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45415-A6AC-4E9B-9469-7730606AC0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BA1B-FC40-438E-BD6F-DA97E384F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ABB3D-968A-49CD-A569-F9EB1CB88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1CBB-5D66-43CB-A752-C3A88BFB3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4D196-BBA7-4B41-9C20-8749C5AA4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F255-034F-4187-BC04-8489B666F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04FB-4B20-441C-990B-D27602B8F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606B-EBC7-46F9-9264-109DA807F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6F0CD-CBC3-4596-A0FF-48A25AB0C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F1607-FE12-4FEF-BF08-C93D112D5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0ADD-4268-45FA-A489-1E4BB8491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F627-9E4F-4E3A-A24A-1EF9373EE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506134D-749D-4DFB-B6EC-279FDE21ADC6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img.liveinternet.ru/images/attach/4/12141/12141459_P1080451.jpg" TargetMode="External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kleo.ru/club/hrizya/ph52127.jpg" TargetMode="External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71640" y="620640"/>
            <a:ext cx="6985080" cy="182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7200" spc="-1" strike="noStrike">
                <a:solidFill>
                  <a:srgbClr val="006600"/>
                </a:solidFill>
                <a:latin typeface="Arial"/>
              </a:rPr>
              <a:t>Цилинд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Площадь поверхности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132000" y="2708280"/>
            <a:ext cx="2675160" cy="223524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176364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248436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320364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392436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464328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536400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608472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680400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752472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824400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32400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1042920" y="5943600"/>
            <a:ext cx="525600" cy="914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 flipH="1">
            <a:off x="177120" y="1413000"/>
            <a:ext cx="1870200" cy="50616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H="1" rot="10800000">
            <a:off x="176760" y="1920960"/>
            <a:ext cx="1870200" cy="50616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flipH="1">
            <a:off x="177120" y="292572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flipH="1" rot="10800000">
            <a:off x="174960" y="343188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2720" y="1917720"/>
            <a:ext cx="144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1989000"/>
            <a:ext cx="180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1917720"/>
            <a:ext cx="144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1123920"/>
            <a:ext cx="144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3933720"/>
            <a:ext cx="144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4720" y="191772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4720" y="3357720"/>
            <a:ext cx="14580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2349360"/>
            <a:ext cx="144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0360" y="3429000"/>
            <a:ext cx="79236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82560" y="3500280"/>
            <a:ext cx="36360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1989000"/>
            <a:ext cx="144180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2720" y="3429000"/>
            <a:ext cx="5763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3080" y="1989000"/>
            <a:ext cx="1440" cy="1440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378936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1989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335772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082240" y="260676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0"/>
            <a:ext cx="7632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Развертка боковой поверхности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60720" y="1484280"/>
            <a:ext cx="144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058920" y="4365720"/>
            <a:ext cx="57639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58920" y="1484280"/>
            <a:ext cx="576396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21800" y="1484280"/>
            <a:ext cx="144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2000" y="400536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1989000"/>
            <a:ext cx="4321080" cy="1800"/>
          </a:xfrm>
          <a:custGeom>
            <a:avLst/>
            <a:gdLst/>
            <a:ahLst/>
            <a:rect l="l" t="t" r="r" b="b"/>
            <a:pathLst>
              <a:path w="12004" h="1">
                <a:moveTo>
                  <a:pt x="0" y="0"/>
                </a:moveTo>
                <a:lnTo>
                  <a:pt x="12003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101080" y="1989000"/>
            <a:ext cx="1440" cy="1440000"/>
          </a:xfrm>
          <a:custGeom>
            <a:avLst/>
            <a:gdLst/>
            <a:ahLst/>
            <a:rect l="l" t="t" r="r" b="b"/>
            <a:pathLst>
              <a:path w="1" h="4001">
                <a:moveTo>
                  <a:pt x="0" y="4000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80000" y="1989000"/>
            <a:ext cx="1440" cy="1440000"/>
          </a:xfrm>
          <a:custGeom>
            <a:avLst/>
            <a:gdLst/>
            <a:ahLst/>
            <a:rect l="l" t="t" r="r" b="b"/>
            <a:pathLst>
              <a:path w="1" h="4001">
                <a:moveTo>
                  <a:pt x="0" y="0"/>
                </a:moveTo>
                <a:lnTo>
                  <a:pt x="0" y="4000"/>
                </a:lnTo>
              </a:path>
            </a:pathLst>
          </a:cu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80000" y="3429000"/>
            <a:ext cx="4321080" cy="1440"/>
          </a:xfrm>
          <a:custGeom>
            <a:avLst/>
            <a:gdLst/>
            <a:ahLst/>
            <a:rect l="l" t="t" r="r" b="b"/>
            <a:pathLst>
              <a:path w="12004" h="1">
                <a:moveTo>
                  <a:pt x="0" y="0"/>
                </a:moveTo>
                <a:lnTo>
                  <a:pt x="12003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276720" y="1989000"/>
            <a:ext cx="503280" cy="1800"/>
          </a:xfrm>
          <a:custGeom>
            <a:avLst/>
            <a:gdLst/>
            <a:ahLst/>
            <a:rect l="l" t="t" r="r" b="b"/>
            <a:pathLst>
              <a:path w="1399" h="1">
                <a:moveTo>
                  <a:pt x="139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276720" y="3429000"/>
            <a:ext cx="503280" cy="1440"/>
          </a:xfrm>
          <a:custGeom>
            <a:avLst/>
            <a:gdLst/>
            <a:ahLst/>
            <a:rect l="l" t="t" r="r" b="b"/>
            <a:pathLst>
              <a:path w="1399" h="1">
                <a:moveTo>
                  <a:pt x="1398" y="0"/>
                </a:move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01080" y="3429000"/>
            <a:ext cx="1440" cy="576360"/>
          </a:xfrm>
          <a:custGeom>
            <a:avLst/>
            <a:gdLst/>
            <a:ahLst/>
            <a:rect l="l" t="t" r="r" b="b"/>
            <a:pathLst>
              <a:path w="1" h="1602">
                <a:moveTo>
                  <a:pt x="0" y="0"/>
                </a:moveTo>
                <a:lnTo>
                  <a:pt x="0" y="1601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80000" y="3429000"/>
            <a:ext cx="1440" cy="576360"/>
          </a:xfrm>
          <a:custGeom>
            <a:avLst/>
            <a:gdLst/>
            <a:ahLst/>
            <a:rect l="l" t="t" r="r" b="b"/>
            <a:pathLst>
              <a:path w="1" h="1602">
                <a:moveTo>
                  <a:pt x="0" y="0"/>
                </a:moveTo>
                <a:lnTo>
                  <a:pt x="0" y="1601"/>
                </a:ln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80000" y="3718080"/>
            <a:ext cx="4321080" cy="1440"/>
          </a:xfrm>
          <a:custGeom>
            <a:avLst/>
            <a:gdLst/>
            <a:ahLst/>
            <a:rect l="l" t="t" r="r" b="b"/>
            <a:pathLst>
              <a:path w="12004" h="1">
                <a:moveTo>
                  <a:pt x="0" y="0"/>
                </a:moveTo>
                <a:lnTo>
                  <a:pt x="12003" y="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1989000"/>
            <a:ext cx="1800" cy="1440000"/>
          </a:xfrm>
          <a:custGeom>
            <a:avLst/>
            <a:gdLst/>
            <a:ahLst/>
            <a:rect l="l" t="t" r="r" b="b"/>
            <a:pathLst>
              <a:path w="1" h="4001">
                <a:moveTo>
                  <a:pt x="0" y="0"/>
                </a:moveTo>
                <a:lnTo>
                  <a:pt x="0" y="4000"/>
                </a:lnTo>
              </a:path>
            </a:pathLst>
          </a:custGeom>
          <a:noFill/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3090240" y="260676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3429000"/>
            <a:ext cx="287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1628640"/>
            <a:ext cx="35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335772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72360" y="170028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3357720"/>
            <a:ext cx="57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π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4581360"/>
            <a:ext cx="611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прямоугольник лежит в плоскости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α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4869000"/>
            <a:ext cx="806436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- основание прямоугольника – развертка окружности основания цилиндра; А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 2πr, r – радиус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5516640"/>
            <a:ext cx="7848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ысота АВ – образующая цилиндра; АВ = h, h – высота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177120" y="2924280"/>
            <a:ext cx="1870200" cy="50616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 rot="10800000">
            <a:off x="176760" y="343188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80000" y="3429000"/>
            <a:ext cx="4321080" cy="1440"/>
          </a:xfrm>
          <a:custGeom>
            <a:avLst/>
            <a:gdLst/>
            <a:ahLst/>
            <a:rect l="l" t="t" r="r" b="b"/>
            <a:pathLst>
              <a:path w="12004" h="1">
                <a:moveTo>
                  <a:pt x="0" y="0"/>
                </a:moveTo>
                <a:lnTo>
                  <a:pt x="12003" y="0"/>
                </a:lnTo>
              </a:path>
            </a:pathLst>
          </a:cu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dur="indefinite" fill="hold">
                      <p:stCondLst>
                        <p:cond delay="indefinite"/>
                      </p:stCondLst>
                      <p:childTnLst>
                        <p:par>
                          <p:cTn id="1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 fill="hold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 fill="hold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 fill="hold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0" fill="hold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 fill="hold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 fill="hold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0" fill="hold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0" fill="hold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 fill="hold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30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dur="indefinite" fill="hold">
                      <p:stCondLst>
                        <p:cond delay="indefinite"/>
                      </p:stCondLst>
                      <p:childTnLst>
                        <p:par>
                          <p:cTn id="21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 fill="hold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0" fill="hold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3000" fill="hold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3000" fill="hold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3000" fill="hold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 fill="hold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0" fill="hold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3000" fill="hold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0" fill="hold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0" fill="hold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0" fill="hold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3000" fill="hold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3000" fill="hold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92360" y="547560"/>
            <a:ext cx="144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90560" y="3429000"/>
            <a:ext cx="576432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90560" y="547560"/>
            <a:ext cx="576432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547560"/>
            <a:ext cx="144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306864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11280" y="1052640"/>
            <a:ext cx="4321440" cy="1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732720" y="1050480"/>
            <a:ext cx="1440" cy="14432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1052640"/>
            <a:ext cx="1800" cy="1439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2492280"/>
            <a:ext cx="4321440" cy="18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906200" y="1052640"/>
            <a:ext cx="50652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06200" y="2492280"/>
            <a:ext cx="506520" cy="18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32720" y="2492280"/>
            <a:ext cx="144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2492280"/>
            <a:ext cx="180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1280" y="2781360"/>
            <a:ext cx="4321440" cy="14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1052640"/>
            <a:ext cx="1800" cy="1439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1721880" y="167004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2492280"/>
            <a:ext cx="28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692280"/>
            <a:ext cx="35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04000" y="242100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4000" y="76356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2421000"/>
            <a:ext cx="57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π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3933720"/>
            <a:ext cx="7705800" cy="19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Найдем площадь прямоуголь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S = АА</a:t>
            </a:r>
            <a:r>
              <a:rPr b="0" lang="en-GB" sz="32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Arial"/>
              </a:rPr>
              <a:t>·АВ =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2πr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"/>
          <p:cNvSpPr/>
          <p:nvPr/>
        </p:nvSpPr>
        <p:spPr>
          <a:xfrm flipH="1">
            <a:off x="6515280" y="2637000"/>
            <a:ext cx="1869840" cy="50616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H="1" rot="10800000">
            <a:off x="6515280" y="3144960"/>
            <a:ext cx="1869840" cy="50616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flipH="1">
            <a:off x="6515280" y="414972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rot="10800000">
            <a:off x="6515280" y="4656240"/>
            <a:ext cx="1869840" cy="50616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9800" y="3141720"/>
            <a:ext cx="180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16720" y="3213000"/>
            <a:ext cx="144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3440" y="3141720"/>
            <a:ext cx="144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81800" y="314172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81800" y="4581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21440" y="3573360"/>
            <a:ext cx="180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97800" y="4653000"/>
            <a:ext cx="792000" cy="14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020000" y="4724280"/>
            <a:ext cx="36360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720" y="501336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5440" y="3213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93080" y="458136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386064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6515280" y="4148280"/>
            <a:ext cx="1869840" cy="50616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flipH="1" rot="10800000">
            <a:off x="6515280" y="4656240"/>
            <a:ext cx="1869840" cy="50616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404640"/>
            <a:ext cx="8642160" cy="19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8000"/>
                </a:solidFill>
                <a:latin typeface="Arial"/>
              </a:rPr>
              <a:t>Площадь боковой поверхности цилиндра равна произведению длины окружности основания на высоту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95640" y="3573360"/>
            <a:ext cx="3908160" cy="86796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πr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dur="indefinite" fill="hold">
                      <p:stCondLst>
                        <p:cond delay="0"/>
                      </p:stCondLst>
                      <p:childTnLst>
                        <p:par>
                          <p:cTn id="2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3000" fill="hold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3000" fill="hold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50920" y="549360"/>
            <a:ext cx="871380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Площадью полной поверхности цилиндра называется сумма площадей боковой поверхности и двух его осн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2360" y="2492280"/>
            <a:ext cx="5545080" cy="8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4800" spc="-1" strike="noStrike" baseline="-25000">
                <a:solidFill>
                  <a:srgbClr val="000000"/>
                </a:solidFill>
                <a:latin typeface="Arial"/>
              </a:rPr>
              <a:t>цил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n-GB" sz="4800" spc="-1" strike="noStrike">
                <a:solidFill>
                  <a:srgbClr val="000000"/>
                </a:solidFill>
                <a:latin typeface="Arial"/>
                <a:ea typeface="Arial"/>
              </a:rPr>
              <a:t>πrh+2πr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92360" y="3789360"/>
            <a:ext cx="5040360" cy="867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GB" sz="4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en-GB" sz="4800" spc="-1" strike="noStrike" baseline="-25000">
                <a:solidFill>
                  <a:srgbClr val="008000"/>
                </a:solidFill>
                <a:latin typeface="Arial"/>
              </a:rPr>
              <a:t>цил</a:t>
            </a:r>
            <a:r>
              <a:rPr b="0" lang="en-GB" sz="48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0" lang="en-GB" sz="4800" spc="-1" strike="noStrike">
                <a:solidFill>
                  <a:srgbClr val="008000"/>
                </a:solidFill>
                <a:latin typeface="Arial"/>
                <a:ea typeface="Arial"/>
              </a:rPr>
              <a:t>2πr(r+h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050920" y="189000"/>
            <a:ext cx="5975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008000"/>
                </a:solidFill>
                <a:latin typeface="Arial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1052640"/>
            <a:ext cx="3097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дача № 5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1844640"/>
            <a:ext cx="655308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иаметр основания цилиндра равен 1м, высота цилиндра равна длине окружности основания. Найдите площадь боковой поверхности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43280" y="3357720"/>
            <a:ext cx="1297080" cy="11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π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4653000"/>
            <a:ext cx="936720" cy="1440"/>
          </a:xfrm>
          <a:custGeom>
            <a:avLst/>
            <a:gdLst/>
            <a:ahLst/>
            <a:rect l="l" t="t" r="r" b="b"/>
            <a:pathLst>
              <a:path w="2603" h="1">
                <a:moveTo>
                  <a:pt x="0" y="0"/>
                </a:moveTo>
                <a:lnTo>
                  <a:pt x="2602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56000" y="3500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56000" y="486900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71640" y="4797360"/>
            <a:ext cx="1871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йти 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5651640" y="30686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 flipH="1" rot="10800000">
            <a:off x="5651640" y="35762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5651640" y="458136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H="1" rot="10800000">
            <a:off x="5648400" y="508752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24720" y="357336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51640" y="364500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3573360"/>
            <a:ext cx="1800" cy="1440000"/>
          </a:xfrm>
          <a:custGeom>
            <a:avLst/>
            <a:gdLst/>
            <a:ahLst/>
            <a:rect l="l" t="t" r="r" b="b"/>
            <a:pathLst>
              <a:path w="1" h="4001">
                <a:moveTo>
                  <a:pt x="0" y="0"/>
                </a:moveTo>
                <a:lnTo>
                  <a:pt x="0" y="400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357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6360" y="400536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659640" y="465300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0" y="1001"/>
                </a:moveTo>
                <a:lnTo>
                  <a:pt x="1001" y="0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156360" y="515628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1001" y="0"/>
                </a:moveTo>
                <a:lnTo>
                  <a:pt x="0" y="1001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44500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40360" y="3645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869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429264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5651640" y="457992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 flipH="1" rot="10800000">
            <a:off x="5651640" y="508752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dur="indefinite" fill="hold">
                      <p:stCondLst>
                        <p:cond delay="indefinite"/>
                      </p:stCondLst>
                      <p:childTnLst>
                        <p:par>
                          <p:cTn id="2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3000" fill="hold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3000" fill="hold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3000" fill="hold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 fill="hold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3000" fill="hold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3000" fill="hold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 fill="hold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3000" fill="hold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 fill="hold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3000" fill="hold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3000" fill="hold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0" fill="hold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 fill="hold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3000" fill="hold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3000" fill="hold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3000" fill="hold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3000" fill="hold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3000" fill="hold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dur="indefinite" fill="hold">
                      <p:stCondLst>
                        <p:cond delay="indefinite"/>
                      </p:stCondLst>
                      <p:childTnLst>
                        <p:par>
                          <p:cTn id="3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3000" fill="hold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0" fill="hold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dur="indefinite" fill="hold">
                      <p:stCondLst>
                        <p:cond delay="indefinite"/>
                      </p:stCondLst>
                      <p:childTnLst>
                        <p:par>
                          <p:cTn id="3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 fill="hold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3000" fill="hold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3000" fill="hold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71640" y="476280"/>
            <a:ext cx="2592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5793480" y="184464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 flipH="1" rot="10800000">
            <a:off x="5793120" y="235224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 flipH="1">
            <a:off x="5793480" y="3357720"/>
            <a:ext cx="1870200" cy="50616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flipH="1" rot="10800000">
            <a:off x="5791680" y="386352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080" y="234936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96000" y="242100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32720" y="2349360"/>
            <a:ext cx="1440" cy="1440000"/>
          </a:xfrm>
          <a:custGeom>
            <a:avLst/>
            <a:gdLst/>
            <a:ahLst/>
            <a:rect l="l" t="t" r="r" b="b"/>
            <a:pathLst>
              <a:path w="1" h="4001">
                <a:moveTo>
                  <a:pt x="0" y="0"/>
                </a:moveTo>
                <a:lnTo>
                  <a:pt x="0" y="4000"/>
                </a:lnTo>
              </a:path>
            </a:pathLst>
          </a:custGeom>
          <a:noFill/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1080" y="2349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1080" y="3789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00720" y="278136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6804000" y="342900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0" y="1001"/>
                </a:moveTo>
                <a:lnTo>
                  <a:pt x="1001" y="0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300720" y="393228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1001" y="0"/>
                </a:moveTo>
                <a:lnTo>
                  <a:pt x="0" y="1001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422100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84720" y="2421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72360" y="3645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12000" y="306864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5793480" y="335592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 flipH="1" rot="10800000">
            <a:off x="5793120" y="386352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71640" y="1197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83" name=""/>
              <p:cNvSpPr txBox="1"/>
              <p:nvPr/>
            </p:nvSpPr>
            <p:spPr>
              <a:xfrm>
                <a:off x="826920" y="2421000"/>
                <a:ext cx="3949920" cy="26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84" name=""/>
          <p:cNvSpPr/>
          <p:nvPr/>
        </p:nvSpPr>
        <p:spPr>
          <a:xfrm>
            <a:off x="3492360" y="5013360"/>
            <a:ext cx="1440000" cy="1440"/>
          </a:xfrm>
          <a:custGeom>
            <a:avLst/>
            <a:gdLst/>
            <a:ahLst/>
            <a:rect l="l" t="t" r="r" b="b"/>
            <a:pathLst>
              <a:path w="4001" h="1">
                <a:moveTo>
                  <a:pt x="0" y="0"/>
                </a:moveTo>
                <a:lnTo>
                  <a:pt x="4000" y="0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755640" y="1341360"/>
            <a:ext cx="26654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32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i="1" lang="en-GB" sz="3200" spc="-1" strike="noStrike">
                <a:solidFill>
                  <a:srgbClr val="000000"/>
                </a:solidFill>
                <a:latin typeface="Arial"/>
              </a:rPr>
              <a:t> = 2π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dur="indefinite" fill="hold">
                      <p:stCondLst>
                        <p:cond delay="indefinite"/>
                      </p:stCondLst>
                      <p:childTnLst>
                        <p:par>
                          <p:cTn id="34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3000" fill="hold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3000" fill="hold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3000" fill="hold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3000" fill="hold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0" fill="hold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3000" fill="hold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3000" fill="hold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3000" fill="hold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 fill="hold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3000" fill="hold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0" fill="hold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 fill="hold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3000" fill="hold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3000" fill="hold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3000" fill="hold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 fill="hold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3000" fill="hold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0" fill="hold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dur="indefinite" fill="hold">
                      <p:stCondLst>
                        <p:cond delay="indefinite"/>
                      </p:stCondLst>
                      <p:childTnLst>
                        <p:par>
                          <p:cTn id="4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3000" fill="hold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0" fill="hold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"/>
          <p:cNvSpPr/>
          <p:nvPr/>
        </p:nvSpPr>
        <p:spPr>
          <a:xfrm>
            <a:off x="3132000" y="333360"/>
            <a:ext cx="302436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дача № 5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42920" y="1341360"/>
            <a:ext cx="770580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колько понадобится краски, чтобы покрасить бак цилиндрической формы с диаметром основания 1,5 м и высотой 3 м, если на один квадратный метр расходуется 200г крас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403280" y="2852640"/>
            <a:ext cx="223200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 = 1,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 = 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0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– 200г кр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547640" y="4581360"/>
            <a:ext cx="1729080" cy="1800"/>
          </a:xfrm>
          <a:custGeom>
            <a:avLst/>
            <a:gdLst/>
            <a:ahLst/>
            <a:rect l="l" t="t" r="r" b="b"/>
            <a:pathLst>
              <a:path w="4804" h="1">
                <a:moveTo>
                  <a:pt x="0" y="0"/>
                </a:moveTo>
                <a:lnTo>
                  <a:pt x="4803" y="0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403280" y="4941720"/>
            <a:ext cx="23036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колько понадобится крас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187280" y="29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258920" y="508464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H="1">
            <a:off x="5865120" y="306864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 flipH="1" rot="10800000">
            <a:off x="5864760" y="357624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865120" y="458136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 rot="10800000">
            <a:off x="5864400" y="508752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740720" y="357336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867280" y="364500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32720" y="5013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372360" y="400536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875640" y="465300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0" y="1001"/>
                </a:moveTo>
                <a:lnTo>
                  <a:pt x="1001" y="0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372360" y="515628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1001" y="0"/>
                </a:moveTo>
                <a:lnTo>
                  <a:pt x="0" y="1001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6083280" y="544500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156360" y="3645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443640" y="4869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083280" y="429264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flipH="1">
            <a:off x="5865120" y="457992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rot="10800000">
            <a:off x="5864760" y="508752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dur="indefinite" fill="hold">
                      <p:stCondLst>
                        <p:cond delay="indefinite"/>
                      </p:stCondLst>
                      <p:childTnLst>
                        <p:par>
                          <p:cTn id="4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3000" fill="hold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 fill="hold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3000" fill="hold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0" fill="hold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0" fill="hold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0" fill="hold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3000" fill="hold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3000" fill="hold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3000" fill="hold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3000" fill="hold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 fill="hold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3000" fill="hold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3000" fill="hold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3000" fill="hold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 fill="hold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3000" fill="hold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dur="indefinite" fill="hold">
                      <p:stCondLst>
                        <p:cond delay="indefinite"/>
                      </p:stCondLst>
                      <p:childTnLst>
                        <p:par>
                          <p:cTn id="4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3000" fill="hold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3000" fill="hold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dur="indefinite" fill="hold">
                      <p:stCondLst>
                        <p:cond delay="indefinite"/>
                      </p:stCondLst>
                      <p:childTnLst>
                        <p:par>
                          <p:cTn id="47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0" fill="hold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3000" fill="hold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 fill="hold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"/>
          <p:cNvSpPr/>
          <p:nvPr/>
        </p:nvSpPr>
        <p:spPr>
          <a:xfrm>
            <a:off x="1835280" y="333360"/>
            <a:ext cx="4824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5793480" y="1413000"/>
            <a:ext cx="1870200" cy="50616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rot="10800000">
            <a:off x="5793120" y="1920960"/>
            <a:ext cx="1870200" cy="50616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H="1">
            <a:off x="5793480" y="292572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H="1" rot="10800000">
            <a:off x="5791680" y="343188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669080" y="191772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5796000" y="198900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661080" y="3357720"/>
            <a:ext cx="1461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300720" y="234936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804000" y="299736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0" y="1001"/>
                </a:moveTo>
                <a:lnTo>
                  <a:pt x="1001" y="0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6300720" y="350028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1001" y="0"/>
                </a:moveTo>
                <a:lnTo>
                  <a:pt x="0" y="1001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6012000" y="378936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84720" y="1989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372360" y="3213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012000" y="263700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5793480" y="2924280"/>
            <a:ext cx="1870200" cy="50616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 flipH="1" rot="10800000">
            <a:off x="5793120" y="3431880"/>
            <a:ext cx="1870200" cy="506520"/>
          </a:xfrm>
          <a:custGeom>
            <a:avLst/>
            <a:gdLst>
              <a:gd name="textAreaLeft" fmla="*/ -360 w 1870200"/>
              <a:gd name="textAreaRight" fmla="*/ 1870200 w 18702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971640" y="126828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71640" y="1052640"/>
            <a:ext cx="374472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Arial"/>
              </a:rPr>
              <a:t>цил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= 2πrh+2πr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8" name=""/>
              <p:cNvSpPr txBox="1"/>
              <p:nvPr/>
            </p:nvSpPr>
            <p:spPr>
              <a:xfrm>
                <a:off x="1116000" y="1844640"/>
                <a:ext cx="374328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29" name=""/>
          <p:cNvSpPr/>
          <p:nvPr/>
        </p:nvSpPr>
        <p:spPr>
          <a:xfrm>
            <a:off x="539640" y="2205000"/>
            <a:ext cx="503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30" name=""/>
              <p:cNvSpPr txBox="1"/>
              <p:nvPr/>
            </p:nvSpPr>
            <p:spPr>
              <a:xfrm>
                <a:off x="1187280" y="3933720"/>
                <a:ext cx="3888000" cy="5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31" name=""/>
          <p:cNvSpPr/>
          <p:nvPr/>
        </p:nvSpPr>
        <p:spPr>
          <a:xfrm>
            <a:off x="611280" y="400536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3419640" y="4581360"/>
            <a:ext cx="1439640" cy="1800"/>
          </a:xfrm>
          <a:custGeom>
            <a:avLst/>
            <a:gdLst/>
            <a:ahLst/>
            <a:rect l="l" t="t" r="r" b="b"/>
            <a:pathLst>
              <a:path w="4000" h="1">
                <a:moveTo>
                  <a:pt x="0" y="0"/>
                </a:moveTo>
                <a:lnTo>
                  <a:pt x="3999" y="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dur="indefinite" fill="hold">
                      <p:stCondLst>
                        <p:cond delay="indefinite"/>
                      </p:stCondLst>
                      <p:childTnLst>
                        <p:par>
                          <p:cTn id="48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3000" fill="hold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3000" fill="hold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3000" fill="hold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3000" fill="hold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3000" fill="hold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3000" fill="hold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3000" fill="hold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3000" fill="hold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3000" fill="hold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3000" fill="hold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0" fill="hold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0" fill="hold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3000" fill="hold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3000" fill="hold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3000" fill="hold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3000" fill="hold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dur="indefinite" fill="hold">
                      <p:stCondLst>
                        <p:cond delay="indefinite"/>
                      </p:stCondLst>
                      <p:childTnLst>
                        <p:par>
                          <p:cTn id="53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3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3000" fill="hold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0" fill="hold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dur="indefinite" fill="hold">
                      <p:stCondLst>
                        <p:cond delay="indefinite"/>
                      </p:stCondLst>
                      <p:childTnLst>
                        <p:par>
                          <p:cTn id="54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0" fill="hold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3000" fill="hold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0" fill="hold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"/>
          <p:cNvSpPr/>
          <p:nvPr/>
        </p:nvSpPr>
        <p:spPr>
          <a:xfrm>
            <a:off x="2411280" y="260280"/>
            <a:ext cx="4753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Задача №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971640" y="1052640"/>
            <a:ext cx="7345440" cy="85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ысота цилиндра на 12 см больше его радиуса, а площадь полной поверхности 288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π см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Найдите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радиус основания и высоту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5938920" y="256536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H="1" rot="10800000">
            <a:off x="5938920" y="307296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>
            <a:off x="5938920" y="4078440"/>
            <a:ext cx="1869840" cy="50616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rot="10800000">
            <a:off x="5938920" y="45842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7813800" y="307008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940360" y="314172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6805440" y="45100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6445080" y="350208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6445080" y="465300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1001" y="0"/>
                </a:moveTo>
                <a:lnTo>
                  <a:pt x="0" y="1001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084720" y="501336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229440" y="314172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6516720" y="436572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156360" y="378936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5938920" y="40766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rot="10800000">
            <a:off x="5938920" y="45842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2492280"/>
            <a:ext cx="1871640" cy="117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 – r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цил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=288</a:t>
            </a: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π см</a:t>
            </a:r>
            <a:r>
              <a:rPr b="0" i="1" lang="en-GB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042920" y="4149720"/>
            <a:ext cx="1800360" cy="1440"/>
          </a:xfrm>
          <a:custGeom>
            <a:avLst/>
            <a:gdLst/>
            <a:ahLst/>
            <a:rect l="l" t="t" r="r" b="b"/>
            <a:pathLst>
              <a:path w="5002" h="1">
                <a:moveTo>
                  <a:pt x="0" y="0"/>
                </a:moveTo>
                <a:lnTo>
                  <a:pt x="5001" y="0"/>
                </a:ln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116000" y="4508640"/>
            <a:ext cx="2376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йти: r и 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263700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84360" y="45813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dur="indefinite" fill="hold">
                      <p:stCondLst>
                        <p:cond delay="indefinite"/>
                      </p:stCondLst>
                      <p:childTnLst>
                        <p:par>
                          <p:cTn id="55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3000" fill="hold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3000" fill="hold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dur="indefinite" fill="hold">
                      <p:stCondLst>
                        <p:cond delay="indefinite"/>
                      </p:stCondLst>
                      <p:childTnLst>
                        <p:par>
                          <p:cTn id="56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6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 fill="hold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0" fill="hold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0" fill="hold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dur="indefinite" fill="hold">
                      <p:stCondLst>
                        <p:cond delay="indefinite"/>
                      </p:stCondLst>
                      <p:childTnLst>
                        <p:par>
                          <p:cTn id="57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 fill="hold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3000" fill="hold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3000" fill="hold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3000" fill="hold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3000" fill="hold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0" fill="hold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3000" fill="hold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3000" fill="hold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3000" fill="hold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3000" fill="hold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3000" fill="hold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3000" fill="hold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3000" fill="hold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0" fill="hold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0" fill="hold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 flipH="1">
            <a:off x="5938920" y="256536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 flipH="1" rot="10800000">
            <a:off x="5938920" y="307296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 flipH="1">
            <a:off x="5938920" y="4078440"/>
            <a:ext cx="1869840" cy="50616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 flipH="1" rot="10800000">
            <a:off x="5938920" y="45842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7813800" y="3070080"/>
            <a:ext cx="144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940360" y="314172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805440" y="45100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45080" y="3502080"/>
            <a:ext cx="1800" cy="1511280"/>
          </a:xfrm>
          <a:custGeom>
            <a:avLst/>
            <a:gdLst/>
            <a:ahLst/>
            <a:rect l="l" t="t" r="r" b="b"/>
            <a:pathLst>
              <a:path w="1" h="4199">
                <a:moveTo>
                  <a:pt x="0" y="0"/>
                </a:moveTo>
                <a:lnTo>
                  <a:pt x="0" y="4198"/>
                </a:lnTo>
              </a:path>
            </a:pathLst>
          </a:cu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445080" y="4653000"/>
            <a:ext cx="360360" cy="360360"/>
          </a:xfrm>
          <a:custGeom>
            <a:avLst/>
            <a:gdLst/>
            <a:ahLst/>
            <a:rect l="l" t="t" r="r" b="b"/>
            <a:pathLst>
              <a:path w="1002" h="1002">
                <a:moveTo>
                  <a:pt x="1001" y="0"/>
                </a:moveTo>
                <a:lnTo>
                  <a:pt x="0" y="1001"/>
                </a:lnTo>
              </a:path>
            </a:pathLst>
          </a:custGeom>
          <a:noFill/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084720" y="501336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229440" y="314172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6516720" y="436572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156360" y="378936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H="1">
            <a:off x="5938920" y="40766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H="1" rot="10800000">
            <a:off x="5938920" y="4584240"/>
            <a:ext cx="1869840" cy="506520"/>
          </a:xfrm>
          <a:custGeom>
            <a:avLst/>
            <a:gdLst>
              <a:gd name="textAreaLeft" fmla="*/ 360 w 1869840"/>
              <a:gd name="textAreaRight" fmla="*/ 1870560 w 186984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1763640" y="260280"/>
            <a:ext cx="3024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900000" y="98100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2" name=""/>
              <p:cNvSpPr txBox="1"/>
              <p:nvPr/>
            </p:nvSpPr>
            <p:spPr>
              <a:xfrm>
                <a:off x="971640" y="933480"/>
                <a:ext cx="2592360" cy="993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3" name=""/>
          <p:cNvSpPr/>
          <p:nvPr/>
        </p:nvSpPr>
        <p:spPr>
          <a:xfrm>
            <a:off x="1042920" y="234936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4" name=""/>
              <p:cNvSpPr txBox="1"/>
              <p:nvPr/>
            </p:nvSpPr>
            <p:spPr>
              <a:xfrm>
                <a:off x="971640" y="1989000"/>
                <a:ext cx="2089080" cy="103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5" name=""/>
              <p:cNvSpPr txBox="1"/>
              <p:nvPr/>
            </p:nvSpPr>
            <p:spPr>
              <a:xfrm>
                <a:off x="1116000" y="3141720"/>
                <a:ext cx="3303720" cy="352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476" name=""/>
          <p:cNvSpPr/>
          <p:nvPr/>
        </p:nvSpPr>
        <p:spPr>
          <a:xfrm>
            <a:off x="4716360" y="6237360"/>
            <a:ext cx="395928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= 6cm, </a:t>
            </a:r>
            <a:r>
              <a:rPr b="1" i="1" lang="en-GB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= 18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dur="indefinite" fill="hold">
                      <p:stCondLst>
                        <p:cond delay="indefinite"/>
                      </p:stCondLst>
                      <p:childTnLst>
                        <p:par>
                          <p:cTn id="62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3000" fill="hold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3000" fill="hold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3000" fill="hold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3000" fill="hold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3000" fill="hold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3000" fill="hold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3000" fill="hold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 fill="hold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3000" fill="hold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3000" fill="hold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3000" fill="hold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3000" fill="hold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3000" fill="hold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3000" fill="hold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3000" fill="hold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dur="indefinite" fill="hold">
                      <p:stCondLst>
                        <p:cond delay="indefinite"/>
                      </p:stCondLst>
                      <p:childTnLst>
                        <p:par>
                          <p:cTn id="66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3000" fill="hold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dur="indefinite" fill="hold">
                      <p:stCondLst>
                        <p:cond delay="indefinite"/>
                      </p:stCondLst>
                      <p:childTnLst>
                        <p:par>
                          <p:cTn id="67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7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3000" fill="hold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dur="indefinite" fill="hold">
                      <p:stCondLst>
                        <p:cond delay="indefinite"/>
                      </p:stCondLst>
                      <p:childTnLst>
                        <p:par>
                          <p:cTn id="67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0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0" fill="hold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dur="indefinite" fill="hold">
                      <p:stCondLst>
                        <p:cond delay="indefinite"/>
                      </p:stCondLst>
                      <p:childTnLst>
                        <p:par>
                          <p:cTn id="68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8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 fill="hold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333360"/>
            <a:ext cx="504036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8000"/>
                </a:solidFill>
                <a:latin typeface="Arial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73360"/>
            <a:ext cx="7920000" cy="130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Ввести формулу площади поверхности цилинд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рименить теоретические знания по данной теме </a:t>
            </a:r>
            <a:br>
              <a:rPr sz="2400"/>
            </a:b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к решению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7" name=""/>
          <p:cNvGrpSpPr/>
          <p:nvPr/>
        </p:nvGrpSpPr>
        <p:grpSpPr>
          <a:xfrm>
            <a:off x="1411200" y="4343400"/>
            <a:ext cx="2968560" cy="1676520"/>
            <a:chOff x="1411200" y="4343400"/>
            <a:chExt cx="2968560" cy="1676520"/>
          </a:xfrm>
        </p:grpSpPr>
        <p:pic>
          <p:nvPicPr>
            <p:cNvPr id="478" name="" descr=""/>
            <p:cNvPicPr/>
            <p:nvPr/>
          </p:nvPicPr>
          <p:blipFill>
            <a:blip r:embed="rId1"/>
            <a:stretch/>
          </p:blipFill>
          <p:spPr>
            <a:xfrm>
              <a:off x="1411200" y="4343400"/>
              <a:ext cx="29685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9" name=""/>
            <p:cNvSpPr/>
            <p:nvPr/>
          </p:nvSpPr>
          <p:spPr>
            <a:xfrm>
              <a:off x="1430280" y="4359240"/>
              <a:ext cx="29289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0" name=""/>
          <p:cNvSpPr/>
          <p:nvPr/>
        </p:nvSpPr>
        <p:spPr>
          <a:xfrm rot="16200000">
            <a:off x="6002280" y="3716280"/>
            <a:ext cx="2714400" cy="1857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6600"/>
              </a:gs>
            </a:gsLst>
            <a:lin ang="5400000"/>
          </a:gradFill>
          <a:ln w="284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755640" y="620640"/>
            <a:ext cx="511164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Arial"/>
              </a:rPr>
              <a:t>Задача №5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826920" y="1341360"/>
            <a:ext cx="691380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севые сечения двух цилиндров равны. Равны ли высоты этих цилиндр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6428520" y="2716200"/>
            <a:ext cx="1877400" cy="3749400"/>
            <a:chOff x="6428520" y="2716200"/>
            <a:chExt cx="1877400" cy="3749400"/>
          </a:xfrm>
        </p:grpSpPr>
        <p:sp>
          <p:nvSpPr>
            <p:cNvPr id="484" name=""/>
            <p:cNvSpPr/>
            <p:nvPr/>
          </p:nvSpPr>
          <p:spPr>
            <a:xfrm flipH="1">
              <a:off x="6431040" y="5524560"/>
              <a:ext cx="1869840" cy="506520"/>
            </a:xfrm>
            <a:custGeom>
              <a:avLst/>
              <a:gdLst>
                <a:gd name="textAreaLeft" fmla="*/ 360 w 1869840"/>
                <a:gd name="textAreaRight" fmla="*/ 1870560 w 186984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fill="none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 flipH="1" rot="10800000">
              <a:off x="6428160" y="5959080"/>
              <a:ext cx="1870200" cy="506520"/>
            </a:xfrm>
            <a:custGeom>
              <a:avLst/>
              <a:gdLst>
                <a:gd name="textAreaLeft" fmla="*/ -360 w 1870200"/>
                <a:gd name="textAreaRight" fmla="*/ 1870200 w 187020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fill="none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6434280" y="3257640"/>
              <a:ext cx="2880" cy="271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7296120" y="5956200"/>
              <a:ext cx="63360" cy="4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 flipH="1">
              <a:off x="6431040" y="2716200"/>
              <a:ext cx="1869840" cy="506520"/>
            </a:xfrm>
            <a:custGeom>
              <a:avLst/>
              <a:gdLst>
                <a:gd name="textAreaLeft" fmla="*/ 360 w 1869840"/>
                <a:gd name="textAreaRight" fmla="*/ 1870560 w 186984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fill="none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 flipH="1" rot="10800000">
              <a:off x="6431040" y="3150720"/>
              <a:ext cx="1869840" cy="506520"/>
            </a:xfrm>
            <a:custGeom>
              <a:avLst/>
              <a:gdLst>
                <a:gd name="textAreaLeft" fmla="*/ 360 w 1869840"/>
                <a:gd name="textAreaRight" fmla="*/ 1870560 w 1869840"/>
                <a:gd name="textAreaTop" fmla="*/ 0 h 506520"/>
                <a:gd name="textAreaBottom" fmla="*/ 506880 h 506520"/>
              </a:gdLst>
              <a:ahLst/>
              <a:rect l="textAreaLeft" t="textAreaTop" r="textAreaRight" b="textAreaBottom"/>
              <a:pathLst>
                <a:path fill="none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</a:path>
                <a:path stroke="0" w="43200" h="21645">
                  <a:moveTo>
                    <a:pt x="0" y="21644"/>
                  </a:moveTo>
                  <a:cubicBezTo>
                    <a:pt x="0" y="21629"/>
                    <a:pt x="0" y="21614"/>
                    <a:pt x="0" y="21600"/>
                  </a:cubicBezTo>
                  <a:cubicBezTo>
                    <a:pt x="0" y="9670"/>
                    <a:pt x="9670" y="0"/>
                    <a:pt x="21600" y="0"/>
                  </a:cubicBezTo>
                  <a:cubicBezTo>
                    <a:pt x="33529" y="-1"/>
                    <a:pt x="43199" y="9670"/>
                    <a:pt x="43200" y="21599"/>
                  </a:cubicBezTo>
                  <a:lnTo>
                    <a:pt x="21600" y="21600"/>
                  </a:lnTo>
                  <a:close/>
                </a:path>
              </a:pathLst>
            </a:cu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04120" y="3219480"/>
              <a:ext cx="1800" cy="27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1" name=""/>
          <p:cNvSpPr/>
          <p:nvPr/>
        </p:nvSpPr>
        <p:spPr>
          <a:xfrm flipH="1">
            <a:off x="1403280" y="5516640"/>
            <a:ext cx="2951280" cy="506160"/>
          </a:xfrm>
          <a:custGeom>
            <a:avLst/>
            <a:gdLst>
              <a:gd name="textAreaLeft" fmla="*/ 360 w 2951280"/>
              <a:gd name="textAreaRight" fmla="*/ 2952000 w 295128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H="1" rot="10800000">
            <a:off x="1404000" y="5951160"/>
            <a:ext cx="2950920" cy="506520"/>
          </a:xfrm>
          <a:custGeom>
            <a:avLst/>
            <a:gdLst>
              <a:gd name="textAreaLeft" fmla="*/ -360 w 2950920"/>
              <a:gd name="textAreaRight" fmla="*/ 2950920 w 29509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403280" y="4365720"/>
            <a:ext cx="6480" cy="159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7280280" y="32623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2787480" y="4359240"/>
            <a:ext cx="7164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 flipH="1">
            <a:off x="1403280" y="3860640"/>
            <a:ext cx="2952720" cy="50652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 flipH="1" rot="10800000">
            <a:off x="1403280" y="4295880"/>
            <a:ext cx="2952720" cy="50616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356000" y="4365720"/>
            <a:ext cx="180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2859120" y="59310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930240" y="5931000"/>
            <a:ext cx="4287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930240" y="4073400"/>
            <a:ext cx="357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430880" y="4073400"/>
            <a:ext cx="428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4430880" y="6002280"/>
            <a:ext cx="4284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31000" y="5931000"/>
            <a:ext cx="57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6002280" y="3002040"/>
            <a:ext cx="357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8359920" y="2930400"/>
            <a:ext cx="57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8359920" y="5931000"/>
            <a:ext cx="3571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001880" y="2716200"/>
            <a:ext cx="25714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CD = MN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073160" y="3144960"/>
            <a:ext cx="1214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B ≠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073160" y="2287440"/>
            <a:ext cx="1785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403280" y="4365720"/>
            <a:ext cx="6480" cy="1595520"/>
          </a:xfrm>
          <a:custGeom>
            <a:avLst/>
            <a:gdLst/>
            <a:ahLst/>
            <a:rect l="l" t="t" r="r" b="b"/>
            <a:pathLst>
              <a:path w="19" h="4433">
                <a:moveTo>
                  <a:pt x="0" y="0"/>
                </a:moveTo>
                <a:lnTo>
                  <a:pt x="18" y="4432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6431040" y="3287880"/>
            <a:ext cx="1440" cy="2714400"/>
          </a:xfrm>
          <a:custGeom>
            <a:avLst/>
            <a:gdLst/>
            <a:ahLst/>
            <a:rect l="l" t="t" r="r" b="b"/>
            <a:pathLst>
              <a:path w="5" h="7541">
                <a:moveTo>
                  <a:pt x="4" y="0"/>
                </a:moveTo>
                <a:lnTo>
                  <a:pt x="0" y="7540"/>
                </a:lnTo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dur="indefinite" fill="hold">
                      <p:stCondLst>
                        <p:cond delay="indefinite"/>
                      </p:stCondLst>
                      <p:childTnLst>
                        <p:par>
                          <p:cTn id="69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3000" fill="hold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3000" fill="hold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 fill="hold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dur="indefinite" fill="hold">
                      <p:stCondLst>
                        <p:cond delay="indefinite"/>
                      </p:stCondLst>
                      <p:childTnLst>
                        <p:par>
                          <p:cTn id="70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3000" fill="hold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3000" fill="hold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3000" fill="hold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"/>
          <p:cNvSpPr/>
          <p:nvPr/>
        </p:nvSpPr>
        <p:spPr>
          <a:xfrm>
            <a:off x="755640" y="2637000"/>
            <a:ext cx="712944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6600"/>
                </a:solidFill>
                <a:latin typeface="Arial"/>
              </a:rPr>
              <a:t>Домашнее задание: п.53, 54, №538, №541, №5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1187280" y="1125360"/>
            <a:ext cx="703584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Показ примеров использования цилиндров в жизни </a:t>
            </a:r>
            <a:br>
              <a:rPr sz="3200"/>
            </a:b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(творческое домашнее зад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692360" y="3213000"/>
            <a:ext cx="5400720" cy="15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Борзых Анна 11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Лазарева Милана 11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Шихалова Александра 1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"/>
          <p:cNvSpPr/>
          <p:nvPr/>
        </p:nvSpPr>
        <p:spPr>
          <a:xfrm>
            <a:off x="4645080" y="3068640"/>
            <a:ext cx="354672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633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Аквариум -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3409920" cy="5038560"/>
          </a:xfrm>
          <a:prstGeom prst="rect">
            <a:avLst/>
          </a:prstGeom>
          <a:ln w="0">
            <a:noFill/>
          </a:ln>
        </p:spPr>
      </p:pic>
      <p:sp>
        <p:nvSpPr>
          <p:cNvPr id="518" name=""/>
          <p:cNvSpPr/>
          <p:nvPr/>
        </p:nvSpPr>
        <p:spPr>
          <a:xfrm>
            <a:off x="1187280" y="1052640"/>
            <a:ext cx="1800" cy="4537080"/>
          </a:xfrm>
          <a:custGeom>
            <a:avLst/>
            <a:gdLst/>
            <a:ahLst/>
            <a:rect l="l" t="t" r="r" b="b"/>
            <a:pathLst>
              <a:path w="1" h="12604">
                <a:moveTo>
                  <a:pt x="0" y="0"/>
                </a:moveTo>
                <a:lnTo>
                  <a:pt x="0" y="12603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340000" y="1052640"/>
            <a:ext cx="1440" cy="4537080"/>
          </a:xfrm>
          <a:custGeom>
            <a:avLst/>
            <a:gdLst/>
            <a:ahLst/>
            <a:rect l="l" t="t" r="r" b="b"/>
            <a:pathLst>
              <a:path w="1" h="12604">
                <a:moveTo>
                  <a:pt x="0" y="0"/>
                </a:moveTo>
                <a:lnTo>
                  <a:pt x="0" y="12603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 flipH="1" rot="10800000">
            <a:off x="1187280" y="5519880"/>
            <a:ext cx="1152720" cy="147600"/>
          </a:xfrm>
          <a:custGeom>
            <a:avLst/>
            <a:gdLst>
              <a:gd name="textAreaLeft" fmla="*/ 360 w 1152720"/>
              <a:gd name="textAreaRight" fmla="*/ 1153440 w 11527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 flipH="1" rot="10800000">
            <a:off x="1187280" y="1126800"/>
            <a:ext cx="1152720" cy="142920"/>
          </a:xfrm>
          <a:custGeom>
            <a:avLst/>
            <a:gdLst>
              <a:gd name="textAreaLeft" fmla="*/ 360 w 1152720"/>
              <a:gd name="textAreaRight" fmla="*/ 1153440 w 11527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1187280" y="981000"/>
            <a:ext cx="1152720" cy="147600"/>
          </a:xfrm>
          <a:custGeom>
            <a:avLst/>
            <a:gdLst>
              <a:gd name="textAreaLeft" fmla="*/ 360 w 1152720"/>
              <a:gd name="textAreaRight" fmla="*/ 1153440 w 115272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4643280" y="3860640"/>
            <a:ext cx="432144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(Прямой круговой цилин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dur="indefinite" fill="hold">
                      <p:stCondLst>
                        <p:cond delay="indefinite"/>
                      </p:stCondLst>
                      <p:childTnLst>
                        <p:par>
                          <p:cTn id="71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1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2000" fill="hold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000" fill="hold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 fill="hold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2000" fill="hold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2000" fill="hold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4020840" cy="469080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544680" y="5734080"/>
            <a:ext cx="8238960" cy="63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237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Ваза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 из прута Н31см Д18см (серебро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2"/>
          <a:stretch/>
        </p:blipFill>
        <p:spPr>
          <a:xfrm>
            <a:off x="738360" y="549360"/>
            <a:ext cx="4427280" cy="5904000"/>
          </a:xfrm>
          <a:prstGeom prst="rect">
            <a:avLst/>
          </a:prstGeom>
          <a:ln w="0">
            <a:noFill/>
          </a:ln>
        </p:spPr>
      </p:pic>
      <p:sp>
        <p:nvSpPr>
          <p:cNvPr id="527" name=""/>
          <p:cNvSpPr/>
          <p:nvPr/>
        </p:nvSpPr>
        <p:spPr>
          <a:xfrm>
            <a:off x="1835280" y="2565360"/>
            <a:ext cx="72720" cy="1800360"/>
          </a:xfrm>
          <a:custGeom>
            <a:avLst/>
            <a:gdLst/>
            <a:ahLst/>
            <a:rect l="l" t="t" r="r" b="b"/>
            <a:pathLst>
              <a:path w="203" h="5002">
                <a:moveTo>
                  <a:pt x="0" y="0"/>
                </a:moveTo>
                <a:lnTo>
                  <a:pt x="202" y="5001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3995640" y="2492280"/>
            <a:ext cx="71640" cy="1873440"/>
          </a:xfrm>
          <a:custGeom>
            <a:avLst/>
            <a:gdLst/>
            <a:ahLst/>
            <a:rect l="l" t="t" r="r" b="b"/>
            <a:pathLst>
              <a:path w="200" h="5205">
                <a:moveTo>
                  <a:pt x="0" y="0"/>
                </a:moveTo>
                <a:lnTo>
                  <a:pt x="199" y="5204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 flipH="1" rot="10800000">
            <a:off x="1908000" y="4295520"/>
            <a:ext cx="2159280" cy="392040"/>
          </a:xfrm>
          <a:custGeom>
            <a:avLst/>
            <a:gdLst>
              <a:gd name="textAreaLeft" fmla="*/ 360 w 2159280"/>
              <a:gd name="textAreaRight" fmla="*/ 2160000 w 2159280"/>
              <a:gd name="textAreaTop" fmla="*/ 0 h 392040"/>
              <a:gd name="textAreaBottom" fmla="*/ 392400 h 3920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978200" y="3933720"/>
            <a:ext cx="2087280" cy="358920"/>
          </a:xfrm>
          <a:custGeom>
            <a:avLst/>
            <a:gdLst>
              <a:gd name="textAreaLeft" fmla="*/ 360 w 2087280"/>
              <a:gd name="textAreaRight" fmla="*/ 2088000 w 2087280"/>
              <a:gd name="textAreaTop" fmla="*/ 0 h 358920"/>
              <a:gd name="textAreaBottom" fmla="*/ 359280 h 3589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 flipH="1">
            <a:off x="1833480" y="2205000"/>
            <a:ext cx="2160720" cy="360360"/>
          </a:xfrm>
          <a:custGeom>
            <a:avLst/>
            <a:gdLst>
              <a:gd name="textAreaLeft" fmla="*/ 0 w 2160720"/>
              <a:gd name="textAreaRight" fmla="*/ 2160720 w 2160720"/>
              <a:gd name="textAreaTop" fmla="*/ 0 h 360360"/>
              <a:gd name="textAreaBottom" fmla="*/ 360720 h 3603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 rot="10800000">
            <a:off x="1834200" y="2638440"/>
            <a:ext cx="2160360" cy="247680"/>
          </a:xfrm>
          <a:custGeom>
            <a:avLst/>
            <a:gdLst>
              <a:gd name="textAreaLeft" fmla="*/ -360 w 2160360"/>
              <a:gd name="textAreaRight" fmla="*/ 2160360 w 2160360"/>
              <a:gd name="textAreaTop" fmla="*/ 0 h 247680"/>
              <a:gd name="textAreaBottom" fmla="*/ 248040 h 24768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724360" y="1916280"/>
            <a:ext cx="324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Сам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dur="indefinite" fill="hold">
                      <p:stCondLst>
                        <p:cond delay="indefinite"/>
                      </p:stCondLst>
                      <p:childTnLst>
                        <p:par>
                          <p:cTn id="7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2000" fill="hold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 fill="hold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 fill="hold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 fill="hold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 fill="hold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2000" fill="hold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9640" y="836640"/>
            <a:ext cx="5106960" cy="428940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361400" y="5527440"/>
            <a:ext cx="35121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Атласный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1476360" y="1341360"/>
            <a:ext cx="144360" cy="2592360"/>
          </a:xfrm>
          <a:custGeom>
            <a:avLst/>
            <a:gdLst/>
            <a:ahLst/>
            <a:rect l="l" t="t" r="r" b="b"/>
            <a:pathLst>
              <a:path w="402" h="7202">
                <a:moveTo>
                  <a:pt x="401" y="0"/>
                </a:moveTo>
                <a:lnTo>
                  <a:pt x="0" y="7201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4788000" y="1413000"/>
            <a:ext cx="288720" cy="2447640"/>
          </a:xfrm>
          <a:custGeom>
            <a:avLst/>
            <a:gdLst/>
            <a:ahLst/>
            <a:rect l="l" t="t" r="r" b="b"/>
            <a:pathLst>
              <a:path w="803" h="6800">
                <a:moveTo>
                  <a:pt x="802" y="0"/>
                </a:moveTo>
                <a:lnTo>
                  <a:pt x="0" y="6799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 rot="10800000">
            <a:off x="1474920" y="3863880"/>
            <a:ext cx="3311280" cy="579600"/>
          </a:xfrm>
          <a:custGeom>
            <a:avLst/>
            <a:gdLst>
              <a:gd name="textAreaLeft" fmla="*/ 360 w 3311280"/>
              <a:gd name="textAreaRight" fmla="*/ 3312000 w 3311280"/>
              <a:gd name="textAreaTop" fmla="*/ 0 h 579600"/>
              <a:gd name="textAreaBottom" fmla="*/ 579960 h 5796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619280" y="836640"/>
            <a:ext cx="3457440" cy="504720"/>
          </a:xfrm>
          <a:custGeom>
            <a:avLst/>
            <a:gdLst>
              <a:gd name="textAreaLeft" fmla="*/ 360 w 3457440"/>
              <a:gd name="textAreaRight" fmla="*/ 3458160 w 3457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rot="10800000">
            <a:off x="1619280" y="1343160"/>
            <a:ext cx="3457440" cy="504720"/>
          </a:xfrm>
          <a:custGeom>
            <a:avLst/>
            <a:gdLst>
              <a:gd name="textAreaLeft" fmla="*/ 360 w 3457440"/>
              <a:gd name="textAreaRight" fmla="*/ 3458160 w 3457440"/>
              <a:gd name="textAreaTop" fmla="*/ 0 h 504720"/>
              <a:gd name="textAreaBottom" fmla="*/ 505080 h 5047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dur="indefinite" fill="hold">
                      <p:stCondLst>
                        <p:cond delay="indefinite"/>
                      </p:stCondLst>
                      <p:childTnLst>
                        <p:par>
                          <p:cTn id="7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000" fill="hold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2000" fill="hold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2000" fill="hold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2000" fill="hold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2000" fill="hold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43" name=""/>
          <p:cNvSpPr/>
          <p:nvPr/>
        </p:nvSpPr>
        <p:spPr>
          <a:xfrm>
            <a:off x="1263600" y="5805360"/>
            <a:ext cx="675324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633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новогодняя свеча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 СНЕГОВИК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268360" y="1557360"/>
            <a:ext cx="1800" cy="4032360"/>
          </a:xfrm>
          <a:custGeom>
            <a:avLst/>
            <a:gdLst/>
            <a:ahLst/>
            <a:rect l="l" t="t" r="r" b="b"/>
            <a:pathLst>
              <a:path w="1" h="11202">
                <a:moveTo>
                  <a:pt x="0" y="0"/>
                </a:moveTo>
                <a:lnTo>
                  <a:pt x="0" y="11201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4067280" y="1557360"/>
            <a:ext cx="1440" cy="4032360"/>
          </a:xfrm>
          <a:custGeom>
            <a:avLst/>
            <a:gdLst/>
            <a:ahLst/>
            <a:rect l="l" t="t" r="r" b="b"/>
            <a:pathLst>
              <a:path w="1" h="11202">
                <a:moveTo>
                  <a:pt x="0" y="0"/>
                </a:moveTo>
                <a:lnTo>
                  <a:pt x="0" y="11201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 rot="10800000">
            <a:off x="2273760" y="5592600"/>
            <a:ext cx="1792440" cy="176400"/>
          </a:xfrm>
          <a:custGeom>
            <a:avLst/>
            <a:gdLst>
              <a:gd name="textAreaLeft" fmla="*/ -360 w 1792440"/>
              <a:gd name="textAreaRight" fmla="*/ 1792440 w 1792440"/>
              <a:gd name="textAreaTop" fmla="*/ 0 h 176400"/>
              <a:gd name="textAreaBottom" fmla="*/ 176760 h 1764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 flipH="1">
            <a:off x="2268360" y="5229360"/>
            <a:ext cx="1727280" cy="287280"/>
          </a:xfrm>
          <a:custGeom>
            <a:avLst/>
            <a:gdLst>
              <a:gd name="textAreaLeft" fmla="*/ 360 w 1727280"/>
              <a:gd name="textAreaRight" fmla="*/ 1728000 w 172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 flipH="1">
            <a:off x="2266920" y="1341360"/>
            <a:ext cx="1798560" cy="216000"/>
          </a:xfrm>
          <a:custGeom>
            <a:avLst/>
            <a:gdLst>
              <a:gd name="textAreaLeft" fmla="*/ 360 w 1798560"/>
              <a:gd name="textAreaRight" fmla="*/ 1799280 w 1798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948360" y="1628640"/>
            <a:ext cx="1800" cy="4032360"/>
          </a:xfrm>
          <a:custGeom>
            <a:avLst/>
            <a:gdLst/>
            <a:ahLst/>
            <a:rect l="l" t="t" r="r" b="b"/>
            <a:pathLst>
              <a:path w="1" h="11202">
                <a:moveTo>
                  <a:pt x="0" y="0"/>
                </a:moveTo>
                <a:lnTo>
                  <a:pt x="0" y="11201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148360" y="1628640"/>
            <a:ext cx="1440" cy="4032360"/>
          </a:xfrm>
          <a:custGeom>
            <a:avLst/>
            <a:gdLst/>
            <a:ahLst/>
            <a:rect l="l" t="t" r="r" b="b"/>
            <a:pathLst>
              <a:path w="1" h="11202">
                <a:moveTo>
                  <a:pt x="0" y="0"/>
                </a:moveTo>
                <a:lnTo>
                  <a:pt x="0" y="11201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H="1" rot="10800000">
            <a:off x="5148720" y="5663880"/>
            <a:ext cx="1792440" cy="176040"/>
          </a:xfrm>
          <a:custGeom>
            <a:avLst/>
            <a:gdLst>
              <a:gd name="textAreaLeft" fmla="*/ -360 w 1792440"/>
              <a:gd name="textAreaRight" fmla="*/ 1792440 w 1792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H="1">
            <a:off x="5148360" y="1341360"/>
            <a:ext cx="1798560" cy="216000"/>
          </a:xfrm>
          <a:custGeom>
            <a:avLst/>
            <a:gdLst>
              <a:gd name="textAreaLeft" fmla="*/ 360 w 1798560"/>
              <a:gd name="textAreaRight" fmla="*/ 1799280 w 1798560"/>
              <a:gd name="textAreaTop" fmla="*/ 0 h 216000"/>
              <a:gd name="textAreaBottom" fmla="*/ 216360 h 2160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 flipH="1">
            <a:off x="5148360" y="5300640"/>
            <a:ext cx="1727280" cy="287280"/>
          </a:xfrm>
          <a:custGeom>
            <a:avLst/>
            <a:gdLst>
              <a:gd name="textAreaLeft" fmla="*/ 360 w 1727280"/>
              <a:gd name="textAreaRight" fmla="*/ 1728000 w 17272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 flipH="1" rot="10800000">
            <a:off x="2267280" y="1560240"/>
            <a:ext cx="1792440" cy="176040"/>
          </a:xfrm>
          <a:custGeom>
            <a:avLst/>
            <a:gdLst>
              <a:gd name="textAreaLeft" fmla="*/ -360 w 1792440"/>
              <a:gd name="textAreaRight" fmla="*/ 1792440 w 1792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H="1" rot="10800000">
            <a:off x="5148720" y="1560240"/>
            <a:ext cx="1792440" cy="176040"/>
          </a:xfrm>
          <a:custGeom>
            <a:avLst/>
            <a:gdLst>
              <a:gd name="textAreaLeft" fmla="*/ -360 w 1792440"/>
              <a:gd name="textAreaRight" fmla="*/ 1792440 w 1792440"/>
              <a:gd name="textAreaTop" fmla="*/ 0 h 176040"/>
              <a:gd name="textAreaBottom" fmla="*/ 176400 h 1760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dur="indefinite" fill="hold">
                      <p:stCondLst>
                        <p:cond delay="indefinite"/>
                      </p:stCondLst>
                      <p:childTnLst>
                        <p:par>
                          <p:cTn id="77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2000" fill="hold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2000" fill="hold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2000" fill="hold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2000" fill="hold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2000" fill="hold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 fill="hold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dur="indefinite" fill="hold">
                      <p:stCondLst>
                        <p:cond delay="indefinite"/>
                      </p:stCondLst>
                      <p:childTnLst>
                        <p:par>
                          <p:cTn id="79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2000" fill="hold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 fill="hold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2000" fill="hold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2000" fill="hold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2000" fill="hold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763640" y="760320"/>
            <a:ext cx="4523040" cy="429732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2560680" y="5311800"/>
            <a:ext cx="56278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А – полость силового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цилиндра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755640" y="4437000"/>
            <a:ext cx="1152360" cy="792360"/>
          </a:xfrm>
          <a:prstGeom prst="wedgeRectCallout">
            <a:avLst>
              <a:gd name="adj1" fmla="val 139120"/>
              <a:gd name="adj2" fmla="val -19068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1042920" y="4437000"/>
            <a:ext cx="50472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dur="indefinite" fill="hold">
                      <p:stCondLst>
                        <p:cond delay="indefinite"/>
                      </p:stCondLst>
                      <p:childTnLst>
                        <p:par>
                          <p:cTn id="81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1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2000" fill="hold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2000" fill="hold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549360"/>
            <a:ext cx="5616720" cy="10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6600" spc="-1" strike="noStrike">
                <a:solidFill>
                  <a:srgbClr val="008000"/>
                </a:solidFill>
                <a:latin typeface="Arial"/>
              </a:rPr>
              <a:t>План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989000"/>
            <a:ext cx="7200720" cy="23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500"/>
              </a:spcBef>
              <a:buClr>
                <a:srgbClr val="0099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Проверка домашнего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0"/>
              </a:spcBef>
              <a:buClr>
                <a:srgbClr val="009999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Новый материал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Решение задач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№537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№539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№540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№524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3000"/>
              </a:lnSpc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Показ примеров использования цилиндров в жизни (</a:t>
            </a:r>
            <a:r>
              <a:rPr b="0" lang="en-GB" sz="2400" spc="-1" strike="noStrike" u="sng">
                <a:solidFill>
                  <a:srgbClr val="ccccff"/>
                </a:solidFill>
                <a:uFillTx/>
                <a:latin typeface="Arial"/>
              </a:rPr>
              <a:t>творческое домашнее задание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3514680" cy="4676760"/>
          </a:xfrm>
          <a:prstGeom prst="rect">
            <a:avLst/>
          </a:prstGeom>
          <a:ln w="0">
            <a:noFill/>
          </a:ln>
        </p:spPr>
      </p:pic>
      <p:sp>
        <p:nvSpPr>
          <p:cNvPr id="561" name=""/>
          <p:cNvSpPr/>
          <p:nvPr/>
        </p:nvSpPr>
        <p:spPr>
          <a:xfrm>
            <a:off x="2989440" y="5805360"/>
            <a:ext cx="494064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23760" anchor="t">
            <a:spAutoFit/>
          </a:bodyPr>
          <a:p>
            <a:pPr>
              <a:lnSpc>
                <a:spcPct val="93000"/>
              </a:lnSpc>
              <a:buClr>
                <a:srgbClr val="008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Пизанская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Башня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 в Италии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2195640" y="1484280"/>
            <a:ext cx="288720" cy="3673440"/>
          </a:xfrm>
          <a:custGeom>
            <a:avLst/>
            <a:gdLst/>
            <a:ahLst/>
            <a:rect l="l" t="t" r="r" b="b"/>
            <a:pathLst>
              <a:path w="803" h="10205">
                <a:moveTo>
                  <a:pt x="802" y="0"/>
                </a:moveTo>
                <a:lnTo>
                  <a:pt x="0" y="10204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3492360" y="1628640"/>
            <a:ext cx="142920" cy="3600720"/>
          </a:xfrm>
          <a:custGeom>
            <a:avLst/>
            <a:gdLst/>
            <a:ahLst/>
            <a:rect l="l" t="t" r="r" b="b"/>
            <a:pathLst>
              <a:path w="398" h="10003">
                <a:moveTo>
                  <a:pt x="397" y="0"/>
                </a:moveTo>
                <a:lnTo>
                  <a:pt x="0" y="10002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 flipH="1" rot="10800000">
            <a:off x="2196000" y="5160960"/>
            <a:ext cx="1297080" cy="147600"/>
          </a:xfrm>
          <a:custGeom>
            <a:avLst/>
            <a:gdLst>
              <a:gd name="textAreaLeft" fmla="*/ -360 w 1297080"/>
              <a:gd name="textAreaRight" fmla="*/ 1297080 w 129708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 flipH="1" rot="300000">
            <a:off x="2481840" y="1414080"/>
            <a:ext cx="1150920" cy="146520"/>
          </a:xfrm>
          <a:custGeom>
            <a:avLst/>
            <a:gdLst>
              <a:gd name="textAreaLeft" fmla="*/ -360 w 1150920"/>
              <a:gd name="textAreaRight" fmla="*/ 1150920 w 1150920"/>
              <a:gd name="textAreaTop" fmla="*/ 0 h 146520"/>
              <a:gd name="textAreaBottom" fmla="*/ 146880 h 14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3492360" y="6308640"/>
            <a:ext cx="4175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(Наклонный цилин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dur="indefinite" fill="hold">
                      <p:stCondLst>
                        <p:cond delay="indefinite"/>
                      </p:stCondLst>
                      <p:childTnLst>
                        <p:par>
                          <p:cTn id="8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2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2000" fill="hold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000" fill="hold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2000" fill="hold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2000" fill="hold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7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41640" y="189000"/>
            <a:ext cx="3859200" cy="5145120"/>
          </a:xfrm>
          <a:prstGeom prst="rect">
            <a:avLst/>
          </a:prstGeom>
          <a:ln w="0">
            <a:noFill/>
          </a:ln>
        </p:spPr>
      </p:pic>
      <p:sp>
        <p:nvSpPr>
          <p:cNvPr id="568" name=""/>
          <p:cNvSpPr/>
          <p:nvPr/>
        </p:nvSpPr>
        <p:spPr>
          <a:xfrm>
            <a:off x="2630520" y="5734080"/>
            <a:ext cx="4502160" cy="67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6336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«клон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Пизанской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8000"/>
                </a:solidFill>
                <a:latin typeface="Arial"/>
              </a:rPr>
              <a:t>башни»</a:t>
            </a: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4572000" y="765000"/>
            <a:ext cx="144360" cy="3816360"/>
          </a:xfrm>
          <a:custGeom>
            <a:avLst/>
            <a:gdLst/>
            <a:ahLst/>
            <a:rect l="l" t="t" r="r" b="b"/>
            <a:pathLst>
              <a:path w="402" h="10602">
                <a:moveTo>
                  <a:pt x="0" y="0"/>
                </a:moveTo>
                <a:lnTo>
                  <a:pt x="401" y="10601"/>
                </a:lnTo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364000" y="620640"/>
            <a:ext cx="216000" cy="3960720"/>
          </a:xfrm>
          <a:custGeom>
            <a:avLst/>
            <a:gdLst/>
            <a:ahLst/>
            <a:rect l="l" t="t" r="r" b="b"/>
            <a:pathLst>
              <a:path w="601" h="11003">
                <a:moveTo>
                  <a:pt x="0" y="0"/>
                </a:moveTo>
                <a:lnTo>
                  <a:pt x="600" y="11002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 rot="10800000">
            <a:off x="4713840" y="4584600"/>
            <a:ext cx="863640" cy="147600"/>
          </a:xfrm>
          <a:custGeom>
            <a:avLst/>
            <a:gdLst>
              <a:gd name="textAreaLeft" fmla="*/ -360 w 863640"/>
              <a:gd name="textAreaRight" fmla="*/ 863640 w 863640"/>
              <a:gd name="textAreaTop" fmla="*/ 0 h 147600"/>
              <a:gd name="textAreaBottom" fmla="*/ 147960 h 1476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4572000" y="476280"/>
            <a:ext cx="792000" cy="288720"/>
          </a:xfrm>
          <a:custGeom>
            <a:avLst/>
            <a:gdLst>
              <a:gd name="textAreaLeft" fmla="*/ 360 w 792000"/>
              <a:gd name="textAreaRight" fmla="*/ 792720 w 792000"/>
              <a:gd name="textAreaTop" fmla="*/ 0 h 288720"/>
              <a:gd name="textAreaBottom" fmla="*/ 288720 h 2887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dur="indefinite" fill="hold">
                      <p:stCondLst>
                        <p:cond delay="indefinite"/>
                      </p:stCondLst>
                      <p:childTnLst>
                        <p:par>
                          <p:cTn id="84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4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2000" fill="hold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2000" fill="hold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2000" fill="hold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2000" fill="hold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2857680" cy="2695320"/>
          </a:xfrm>
          <a:prstGeom prst="rect">
            <a:avLst/>
          </a:prstGeom>
          <a:ln w="0">
            <a:noFill/>
          </a:ln>
        </p:spPr>
      </p:pic>
      <p:pic>
        <p:nvPicPr>
          <p:cNvPr id="574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386160" cy="2540160"/>
          </a:xfrm>
          <a:prstGeom prst="rect">
            <a:avLst/>
          </a:prstGeom>
          <a:ln w="0">
            <a:noFill/>
          </a:ln>
        </p:spPr>
      </p:pic>
      <p:sp>
        <p:nvSpPr>
          <p:cNvPr id="575" name=""/>
          <p:cNvSpPr/>
          <p:nvPr/>
        </p:nvSpPr>
        <p:spPr>
          <a:xfrm>
            <a:off x="6804000" y="1989000"/>
            <a:ext cx="287280" cy="1224000"/>
          </a:xfrm>
          <a:custGeom>
            <a:avLst/>
            <a:gdLst/>
            <a:ahLst/>
            <a:rect l="l" t="t" r="r" b="b"/>
            <a:pathLst>
              <a:path w="799" h="3401">
                <a:moveTo>
                  <a:pt x="798" y="0"/>
                </a:moveTo>
                <a:lnTo>
                  <a:pt x="0" y="3400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812000" y="1989000"/>
            <a:ext cx="360360" cy="1224000"/>
          </a:xfrm>
          <a:custGeom>
            <a:avLst/>
            <a:gdLst/>
            <a:ahLst/>
            <a:rect l="l" t="t" r="r" b="b"/>
            <a:pathLst>
              <a:path w="1002" h="3401">
                <a:moveTo>
                  <a:pt x="1001" y="0"/>
                </a:moveTo>
                <a:lnTo>
                  <a:pt x="0" y="3400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940360" y="1557360"/>
            <a:ext cx="287280" cy="1295280"/>
          </a:xfrm>
          <a:custGeom>
            <a:avLst/>
            <a:gdLst/>
            <a:ahLst/>
            <a:rect l="l" t="t" r="r" b="b"/>
            <a:pathLst>
              <a:path w="799" h="3599">
                <a:moveTo>
                  <a:pt x="798" y="0"/>
                </a:moveTo>
                <a:lnTo>
                  <a:pt x="0" y="3598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6300720" y="1844640"/>
            <a:ext cx="287280" cy="1152720"/>
          </a:xfrm>
          <a:custGeom>
            <a:avLst/>
            <a:gdLst/>
            <a:ahLst/>
            <a:rect l="l" t="t" r="r" b="b"/>
            <a:pathLst>
              <a:path w="799" h="3203">
                <a:moveTo>
                  <a:pt x="798" y="0"/>
                </a:moveTo>
                <a:lnTo>
                  <a:pt x="0" y="3202"/>
                </a:ln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79" name=""/>
          <p:cNvCxnSpPr>
            <a:stCxn id="580" idx="1"/>
          </p:cNvCxnSpPr>
          <p:nvPr/>
        </p:nvCxnSpPr>
        <p:spPr>
          <a:xfrm>
            <a:off x="6118200" y="1293480"/>
            <a:ext cx="1264320" cy="45324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581" name=""/>
          <p:cNvCxnSpPr>
            <a:endCxn id="576" idx="0"/>
          </p:cNvCxnSpPr>
          <p:nvPr/>
        </p:nvCxnSpPr>
        <p:spPr>
          <a:xfrm>
            <a:off x="7093080" y="1988640"/>
            <a:ext cx="1080000" cy="613440"/>
          </a:xfrm>
          <a:prstGeom prst="straightConnector1">
            <a:avLst/>
          </a:prstGeom>
          <a:ln w="50760">
            <a:solidFill>
              <a:srgbClr val="ff3300"/>
            </a:solidFill>
            <a:miter/>
          </a:ln>
        </p:spPr>
      </p:cxnSp>
      <p:sp>
        <p:nvSpPr>
          <p:cNvPr id="580" name=""/>
          <p:cNvSpPr/>
          <p:nvPr/>
        </p:nvSpPr>
        <p:spPr>
          <a:xfrm rot="1140000">
            <a:off x="6140160" y="1560600"/>
            <a:ext cx="1700280" cy="412560"/>
          </a:xfrm>
          <a:custGeom>
            <a:avLst/>
            <a:gdLst>
              <a:gd name="textAreaLeft" fmla="*/ 0 w 1700280"/>
              <a:gd name="textAreaRight" fmla="*/ 1227600 w 1700280"/>
              <a:gd name="textAreaTop" fmla="*/ 0 h 412560"/>
              <a:gd name="textAreaBottom" fmla="*/ 392760 h 412560"/>
            </a:gdLst>
            <a:ahLst/>
            <a:rect l="textAreaLeft" t="textAreaTop" r="textAreaRight" b="textAreaBottom"/>
            <a:pathLst>
              <a:path stroke="0" w="21600" h="21600">
                <a:moveTo>
                  <a:pt x="6220" y="20581"/>
                </a:moveTo>
                <a:arcTo wR="10800" hR="10800" stAng="6905446" swAng="10838894"/>
                <a:lnTo>
                  <a:pt x="10800" y="10800"/>
                </a:lnTo>
                <a:close/>
              </a:path>
              <a:path fill="none" w="21600" h="21600">
                <a:moveTo>
                  <a:pt x="6220" y="20581"/>
                </a:moveTo>
                <a:arcTo wR="10800" hR="10800" stAng="6905446" swAng="1083889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433840" y="2854440"/>
            <a:ext cx="866880" cy="431640"/>
          </a:xfrm>
          <a:custGeom>
            <a:avLst/>
            <a:gdLst>
              <a:gd name="textAreaLeft" fmla="*/ 433440 w 866880"/>
              <a:gd name="textAreaRight" fmla="*/ 866880 w 866880"/>
              <a:gd name="textAreaTop" fmla="*/ 1080 h 431640"/>
              <a:gd name="textAreaBottom" fmla="*/ 215640 h 431640"/>
            </a:gdLst>
            <a:ahLst/>
            <a:rect l="textAreaLeft" t="textAreaTop" r="textAreaRight" b="textAreaBottom"/>
            <a:pathLst>
              <a:path stroke="0" w="21600" h="21600">
                <a:moveTo>
                  <a:pt x="21600" y="10800"/>
                </a:moveTo>
                <a:arcTo wR="10800" hR="10800" stAng="0" swAng="0"/>
                <a:lnTo>
                  <a:pt x="10800" y="10800"/>
                </a:lnTo>
                <a:close/>
              </a:path>
              <a:path fill="none" w="21600" h="21600">
                <a:moveTo>
                  <a:pt x="21600" y="10800"/>
                </a:moveTo>
                <a:arcTo wR="10800" hR="10800" stAng="0" swAng="0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V="1" rot="2340000">
            <a:off x="6306840" y="2038320"/>
            <a:ext cx="1712880" cy="1269720"/>
          </a:xfrm>
          <a:custGeom>
            <a:avLst/>
            <a:gdLst>
              <a:gd name="textAreaLeft" fmla="*/ 856440 w 1712880"/>
              <a:gd name="textAreaRight" fmla="*/ 1712880 w 1712880"/>
              <a:gd name="textAreaTop" fmla="*/ 0 h 1269720"/>
              <a:gd name="textAreaBottom" fmla="*/ 634680 h 126972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2843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8435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V="1" rot="2340000">
            <a:off x="6575040" y="871560"/>
            <a:ext cx="1711440" cy="1279440"/>
          </a:xfrm>
          <a:custGeom>
            <a:avLst/>
            <a:gdLst>
              <a:gd name="textAreaLeft" fmla="*/ 855720 w 1711440"/>
              <a:gd name="textAreaRight" fmla="*/ 1711440 w 1711440"/>
              <a:gd name="textAreaTop" fmla="*/ 0 h 1279440"/>
              <a:gd name="textAreaBottom" fmla="*/ 732240 h 1279440"/>
            </a:gdLst>
            <a:ahLst/>
            <a:rect l="textAreaLeft" t="textAreaTop" r="textAreaRight" b="textAreaBottom"/>
            <a:pathLst>
              <a:path stroke="0" w="21600" h="21600">
                <a:moveTo>
                  <a:pt x="10800" y="0"/>
                </a:moveTo>
                <a:arcTo wR="10800" hR="10800" stAng="-5400000" swAng="5923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923131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5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4646520" cy="2773080"/>
          </a:xfrm>
          <a:prstGeom prst="rect">
            <a:avLst/>
          </a:prstGeom>
          <a:ln w="0">
            <a:noFill/>
          </a:ln>
        </p:spPr>
      </p:pic>
      <p:sp>
        <p:nvSpPr>
          <p:cNvPr id="586" name=""/>
          <p:cNvSpPr/>
          <p:nvPr/>
        </p:nvSpPr>
        <p:spPr>
          <a:xfrm>
            <a:off x="2484360" y="2133720"/>
            <a:ext cx="158436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108000" y="189000"/>
            <a:ext cx="7416720" cy="12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Цилиндр, каждое основание которого – </a:t>
            </a:r>
            <a:br>
              <a:rPr sz="2800"/>
            </a:br>
            <a:r>
              <a:rPr b="0" lang="en-GB" sz="2800" spc="-1" strike="noStrike">
                <a:solidFill>
                  <a:srgbClr val="008000"/>
                </a:solidFill>
                <a:latin typeface="Arial"/>
              </a:rPr>
              <a:t>фигура, ограниченная частью параболы и отрез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dur="indefinite" fill="hold">
                      <p:stCondLst>
                        <p:cond delay="indefinite"/>
                      </p:stCondLst>
                      <p:childTnLst>
                        <p:par>
                          <p:cTn id="85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2000" fill="hold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2000" fill="hold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2000" fill="hold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000" fill="hold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 fill="hold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2000" fill="hold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2000" fill="hold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2000" fill="hold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2000" fill="hold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836640"/>
            <a:ext cx="698508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341360"/>
            <a:ext cx="748800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500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Изобразите цилиндр и провед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6040" y="189000"/>
            <a:ext cx="588672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07920"/>
            <a:ext cx="43164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797360"/>
            <a:ext cx="7705800" cy="54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Arial"/>
              </a:rPr>
              <a:t>Домашнее задание - задача № 527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869000"/>
            <a:ext cx="43164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4880" y="1844640"/>
            <a:ext cx="644400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</a:rPr>
              <a:t>Две – три образующие цилинд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5240" y="2421000"/>
            <a:ext cx="33062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</a:rPr>
              <a:t>Ось цилинд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06560" y="2997360"/>
            <a:ext cx="81374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</a:rPr>
              <a:t>Сечение цилиндра плоскостью, проходящей через его о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3933720"/>
            <a:ext cx="8280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1280" indent="-341280"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341280"/>
                <a:tab algn="l" pos="1255680"/>
                <a:tab algn="l" pos="2170080"/>
                <a:tab algn="l" pos="3084480"/>
                <a:tab algn="l" pos="3998880"/>
                <a:tab algn="l" pos="4913280"/>
                <a:tab algn="l" pos="5827680"/>
                <a:tab algn="l" pos="6742080"/>
                <a:tab algn="l" pos="7656480"/>
                <a:tab algn="l" pos="8570880"/>
                <a:tab algn="l" pos="9485280"/>
                <a:tab algn="l" pos="10399680"/>
                <a:tab algn="l" pos="10782360"/>
              </a:tabLst>
            </a:pPr>
            <a:r>
              <a:rPr b="0" lang="en-GB" sz="2800" spc="-1" strike="noStrike" u="sng">
                <a:solidFill>
                  <a:srgbClr val="ccccff"/>
                </a:solidFill>
                <a:uFillTx/>
                <a:latin typeface="Arial"/>
              </a:rPr>
              <a:t>Сечение цилиндра плоскостью, параллельной его осн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844640"/>
            <a:ext cx="50328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421000"/>
            <a:ext cx="576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068640"/>
            <a:ext cx="576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860640"/>
            <a:ext cx="57636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3424320" y="4363920"/>
            <a:ext cx="2303280" cy="903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348000" y="1628640"/>
            <a:ext cx="244944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3348000" y="2131920"/>
            <a:ext cx="2451240" cy="3168720"/>
            <a:chOff x="3348000" y="2131920"/>
            <a:chExt cx="2451240" cy="3168720"/>
          </a:xfrm>
        </p:grpSpPr>
        <p:sp>
          <p:nvSpPr>
            <p:cNvPr id="76" name=""/>
            <p:cNvSpPr/>
            <p:nvPr/>
          </p:nvSpPr>
          <p:spPr>
            <a:xfrm>
              <a:off x="3348000" y="2779560"/>
              <a:ext cx="1800" cy="212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65440" y="2779560"/>
              <a:ext cx="1800" cy="223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852720" y="2779560"/>
              <a:ext cx="1800" cy="244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13080" y="2779560"/>
              <a:ext cx="1800" cy="252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005440" y="2779560"/>
              <a:ext cx="1440" cy="252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292720" y="2779560"/>
              <a:ext cx="1440" cy="237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81800" y="2779560"/>
              <a:ext cx="1440" cy="2233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97440" y="2421000"/>
              <a:ext cx="1800" cy="24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348000" y="2131920"/>
              <a:ext cx="180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65440" y="2276640"/>
              <a:ext cx="1800" cy="50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213080" y="2421000"/>
              <a:ext cx="1800" cy="43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1800" y="2276640"/>
              <a:ext cx="1440" cy="57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852720" y="2347920"/>
              <a:ext cx="180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005440" y="2421000"/>
              <a:ext cx="144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97440" y="2131920"/>
              <a:ext cx="180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5290920" y="2347920"/>
              <a:ext cx="468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41840" y="4940280"/>
            <a:ext cx="376200" cy="333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210200" y="4653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713120" y="4724280"/>
            <a:ext cx="289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500720" y="1987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4573440" y="2131920"/>
            <a:ext cx="427320" cy="2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348000" y="1628640"/>
            <a:ext cx="244800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348000" y="501336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48000" y="1844640"/>
            <a:ext cx="50328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932360" y="530064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861080" y="1987560"/>
            <a:ext cx="5029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140360" y="1555920"/>
            <a:ext cx="504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573440" y="2131920"/>
            <a:ext cx="1800" cy="273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97480" y="47959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269080" y="260280"/>
            <a:ext cx="458676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Arial"/>
              </a:rPr>
              <a:t>Элементы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108000" y="2997360"/>
            <a:ext cx="2808360" cy="1726920"/>
            <a:chOff x="108000" y="2997360"/>
            <a:chExt cx="2808360" cy="1726920"/>
          </a:xfrm>
        </p:grpSpPr>
        <p:sp>
          <p:nvSpPr>
            <p:cNvPr id="107" name=""/>
            <p:cNvSpPr/>
            <p:nvPr/>
          </p:nvSpPr>
          <p:spPr>
            <a:xfrm>
              <a:off x="108000" y="3068640"/>
              <a:ext cx="2808360" cy="1655640"/>
            </a:xfrm>
            <a:prstGeom prst="wedgeRoundRectCallout">
              <a:avLst>
                <a:gd name="adj1" fmla="val 88328"/>
                <a:gd name="adj2" fmla="val -18361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95280" y="2997360"/>
              <a:ext cx="2376360" cy="16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Цилиндрическая поверхность -  </a:t>
              </a:r>
              <a:br>
                <a:rPr sz="1800"/>
              </a:b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боковая поверхность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цилинд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79280" y="981000"/>
            <a:ext cx="2880000" cy="5732640"/>
            <a:chOff x="179280" y="981000"/>
            <a:chExt cx="2880000" cy="5732640"/>
          </a:xfrm>
        </p:grpSpPr>
        <p:grpSp>
          <p:nvGrpSpPr>
            <p:cNvPr id="110" name=""/>
            <p:cNvGrpSpPr/>
            <p:nvPr/>
          </p:nvGrpSpPr>
          <p:grpSpPr>
            <a:xfrm>
              <a:off x="179280" y="981000"/>
              <a:ext cx="2808360" cy="1656000"/>
              <a:chOff x="179280" y="981000"/>
              <a:chExt cx="2808360" cy="1656000"/>
            </a:xfrm>
          </p:grpSpPr>
          <p:sp>
            <p:nvSpPr>
              <p:cNvPr id="111" name=""/>
              <p:cNvSpPr/>
              <p:nvPr/>
            </p:nvSpPr>
            <p:spPr>
              <a:xfrm>
                <a:off x="179280" y="981000"/>
                <a:ext cx="2808360" cy="1656000"/>
              </a:xfrm>
              <a:prstGeom prst="wedgeRoundRectCallout">
                <a:avLst>
                  <a:gd name="adj1" fmla="val 84990"/>
                  <a:gd name="adj2" fmla="val -3689"/>
                  <a:gd name="adj3" fmla="val 16667"/>
                </a:avLst>
              </a:prstGeom>
              <a:solidFill>
                <a:srgbClr val="ff6600">
                  <a:alpha val="5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179280" y="1123920"/>
                <a:ext cx="2808360" cy="1290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Круг с границей L</a:t>
                </a:r>
                <a:r>
                  <a:rPr b="0" lang="en-GB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-верхнее 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основание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цилиндр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"/>
            <p:cNvGrpSpPr/>
            <p:nvPr/>
          </p:nvGrpSpPr>
          <p:grpSpPr>
            <a:xfrm>
              <a:off x="250920" y="5084640"/>
              <a:ext cx="2808360" cy="1629000"/>
              <a:chOff x="250920" y="5084640"/>
              <a:chExt cx="2808360" cy="1629000"/>
            </a:xfrm>
          </p:grpSpPr>
          <p:sp>
            <p:nvSpPr>
              <p:cNvPr id="114" name=""/>
              <p:cNvSpPr/>
              <p:nvPr/>
            </p:nvSpPr>
            <p:spPr>
              <a:xfrm>
                <a:off x="250920" y="5084640"/>
                <a:ext cx="2808360" cy="1629000"/>
              </a:xfrm>
              <a:prstGeom prst="wedgeRoundRectCallout">
                <a:avLst>
                  <a:gd name="adj1" fmla="val 84990"/>
                  <a:gd name="adj2" fmla="val -73587"/>
                  <a:gd name="adj3" fmla="val 16667"/>
                </a:avLst>
              </a:prstGeom>
              <a:solidFill>
                <a:srgbClr val="ff6600">
                  <a:alpha val="5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3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68360" y="5229360"/>
                <a:ext cx="2303280" cy="1255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93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  <a:tab algn="l" pos="10333080"/>
                    <a:tab algn="l" pos="10782360"/>
                  </a:tabLst>
                </a:pP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Круг с границей L - нижнее </a:t>
                </a:r>
                <a:r>
                  <a:rPr b="0" lang="en-GB" sz="2800" spc="-1" strike="noStrike">
                    <a:solidFill>
                      <a:srgbClr val="000000"/>
                    </a:solidFill>
                    <a:latin typeface="Arial"/>
                  </a:rPr>
                  <a:t>основание</a:t>
                </a:r>
                <a:r>
                  <a:rPr b="0" lang="en-GB" sz="1800" spc="-1" strike="noStrike">
                    <a:solidFill>
                      <a:srgbClr val="000000"/>
                    </a:solidFill>
                    <a:latin typeface="Arial"/>
                  </a:rPr>
                  <a:t> цилинд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6229080" y="1269720"/>
            <a:ext cx="2808360" cy="863640"/>
            <a:chOff x="6229080" y="1269720"/>
            <a:chExt cx="2808360" cy="863640"/>
          </a:xfrm>
        </p:grpSpPr>
        <p:sp>
          <p:nvSpPr>
            <p:cNvPr id="117" name=""/>
            <p:cNvSpPr/>
            <p:nvPr/>
          </p:nvSpPr>
          <p:spPr>
            <a:xfrm rot="10800000">
              <a:off x="6229080" y="1269360"/>
              <a:ext cx="2808360" cy="863640"/>
            </a:xfrm>
            <a:prstGeom prst="wedgeRoundRectCallout">
              <a:avLst>
                <a:gd name="adj1" fmla="val 109749"/>
                <a:gd name="adj2" fmla="val -197060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443640" y="1484280"/>
              <a:ext cx="2448000" cy="5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Ось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цилиндра ОО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4932360" y="1268280"/>
            <a:ext cx="50328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651640" y="494172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6157440" y="2925720"/>
            <a:ext cx="2808720" cy="1873440"/>
            <a:chOff x="6157440" y="2925720"/>
            <a:chExt cx="2808720" cy="1873440"/>
          </a:xfrm>
        </p:grpSpPr>
        <p:sp>
          <p:nvSpPr>
            <p:cNvPr id="122" name=""/>
            <p:cNvSpPr/>
            <p:nvPr/>
          </p:nvSpPr>
          <p:spPr>
            <a:xfrm rot="10800000">
              <a:off x="6157440" y="2925360"/>
              <a:ext cx="2808360" cy="1873440"/>
            </a:xfrm>
            <a:prstGeom prst="wedgeRoundRectCallout">
              <a:avLst>
                <a:gd name="adj1" fmla="val 81597"/>
                <a:gd name="adj2" fmla="val -25509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00720" y="2997360"/>
              <a:ext cx="2665440" cy="154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Образующие цилиндрической поверхности –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образующие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цилиндра АА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и ММ</a:t>
              </a:r>
              <a:r>
                <a:rPr b="0" lang="en-GB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6300720" y="5232240"/>
            <a:ext cx="2664000" cy="1440000"/>
            <a:chOff x="6300720" y="5232240"/>
            <a:chExt cx="2664000" cy="1440000"/>
          </a:xfrm>
        </p:grpSpPr>
        <p:sp>
          <p:nvSpPr>
            <p:cNvPr id="125" name=""/>
            <p:cNvSpPr/>
            <p:nvPr/>
          </p:nvSpPr>
          <p:spPr>
            <a:xfrm rot="10800000">
              <a:off x="6300720" y="5232240"/>
              <a:ext cx="2664000" cy="1440000"/>
            </a:xfrm>
            <a:prstGeom prst="wedgeRoundRectCallout">
              <a:avLst>
                <a:gd name="adj1" fmla="val 88375"/>
                <a:gd name="adj2" fmla="val 110305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372360" y="5300640"/>
              <a:ext cx="2592360" cy="125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Длина образующей называется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высотой 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цилинд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492360" y="5806800"/>
            <a:ext cx="2664000" cy="863640"/>
            <a:chOff x="3492360" y="5806800"/>
            <a:chExt cx="2664000" cy="863640"/>
          </a:xfrm>
        </p:grpSpPr>
        <p:sp>
          <p:nvSpPr>
            <p:cNvPr id="128" name=""/>
            <p:cNvSpPr/>
            <p:nvPr/>
          </p:nvSpPr>
          <p:spPr>
            <a:xfrm rot="10800000">
              <a:off x="3494160" y="5806800"/>
              <a:ext cx="2519280" cy="863640"/>
            </a:xfrm>
            <a:prstGeom prst="wedgeRoundRectCallout">
              <a:avLst>
                <a:gd name="adj1" fmla="val -1925"/>
                <a:gd name="adj2" fmla="val 136212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492360" y="5877000"/>
              <a:ext cx="2664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  <a:tab algn="l" pos="10333080"/>
                  <a:tab algn="l" pos="1078236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Радиус основания – </a:t>
              </a:r>
              <a:r>
                <a:rPr b="0" lang="en-GB" sz="2800" spc="-1" strike="noStrike">
                  <a:solidFill>
                    <a:srgbClr val="000000"/>
                  </a:solidFill>
                  <a:latin typeface="Arial"/>
                </a:rPr>
                <a:t>радиус</a:t>
              </a:r>
              <a:r>
                <a:rPr b="0" lang="en-GB" sz="1800" spc="-1" strike="noStrike">
                  <a:solidFill>
                    <a:srgbClr val="000000"/>
                  </a:solidFill>
                  <a:latin typeface="Arial"/>
                </a:rPr>
                <a:t> цилинд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956720" y="115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H="1" rot="10800000">
            <a:off x="3352680" y="4800240"/>
            <a:ext cx="2448000" cy="50652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3348000" y="4365720"/>
            <a:ext cx="2448000" cy="50616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160"/>
              <a:gd name="textAreaBottom" fmla="*/ 506520 h 50616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 fill="hold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fill="hold">
                      <p:stCondLst>
                        <p:cond delay="indefinite"/>
                      </p:stCondLst>
                      <p:childTnLst>
                        <p:par>
                          <p:cTn id="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dur="indefinite" fill="hold">
                      <p:stCondLst>
                        <p:cond delay="indefinite"/>
                      </p:stCondLst>
                      <p:childTnLst>
                        <p:par>
                          <p:cTn id="1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3000" fill="hold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dur="indefinite" fill="hold">
                      <p:stCondLst>
                        <p:cond delay="indefinite"/>
                      </p:stCondLst>
                      <p:childTnLst>
                        <p:par>
                          <p:cTn id="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3000" fill="hold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dur="indefinite" fill="hold">
                      <p:stCondLst>
                        <p:cond delay="indefinite"/>
                      </p:stCondLst>
                      <p:childTnLst>
                        <p:par>
                          <p:cTn id="2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3000" fill="hold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dur="indefinite" fill="hold">
                      <p:stCondLst>
                        <p:cond delay="indefinite"/>
                      </p:stCondLst>
                      <p:childTnLst>
                        <p:par>
                          <p:cTn id="2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3000" fill="hold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516720" y="558972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343480" y="3460680"/>
            <a:ext cx="2374920" cy="93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"/>
          <p:cNvGrpSpPr/>
          <p:nvPr/>
        </p:nvGrpSpPr>
        <p:grpSpPr>
          <a:xfrm>
            <a:off x="754200" y="2286360"/>
            <a:ext cx="2213640" cy="3625200"/>
            <a:chOff x="754200" y="2286360"/>
            <a:chExt cx="2213640" cy="3625200"/>
          </a:xfrm>
        </p:grpSpPr>
        <p:sp>
          <p:nvSpPr>
            <p:cNvPr id="136" name=""/>
            <p:cNvSpPr/>
            <p:nvPr/>
          </p:nvSpPr>
          <p:spPr>
            <a:xfrm rot="8100000">
              <a:off x="801000" y="2887200"/>
              <a:ext cx="2119320" cy="1011240"/>
            </a:xfrm>
            <a:prstGeom prst="parallelogram">
              <a:avLst>
                <a:gd name="adj" fmla="val 10279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7860000">
              <a:off x="768960" y="4320360"/>
              <a:ext cx="2160720" cy="936720"/>
            </a:xfrm>
            <a:prstGeom prst="parallelogram">
              <a:avLst>
                <a:gd name="adj" fmla="val 113145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 flipV="1">
            <a:off x="1836720" y="5011560"/>
            <a:ext cx="431640" cy="5083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1836720" y="2276640"/>
            <a:ext cx="433440" cy="434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260280"/>
            <a:ext cx="5616720" cy="60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6600"/>
                </a:solidFill>
                <a:latin typeface="Arial"/>
              </a:rPr>
              <a:t>Сечения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74920" y="530208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2720" y="2278080"/>
            <a:ext cx="244800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403280" y="2205000"/>
            <a:ext cx="504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838160" y="2781360"/>
            <a:ext cx="1800" cy="273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220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1476360" y="2708280"/>
            <a:ext cx="360360" cy="36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1476360" y="5587920"/>
            <a:ext cx="289080" cy="3636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6544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060720" y="2708280"/>
            <a:ext cx="1440" cy="281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12720" y="2709720"/>
            <a:ext cx="180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476360" y="3068640"/>
            <a:ext cx="1440" cy="288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476360" y="3068640"/>
            <a:ext cx="1440" cy="2882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2268360" y="2276280"/>
            <a:ext cx="1800" cy="281124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00000" y="981000"/>
            <a:ext cx="3168720" cy="60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севое сечение цилиндра - прямоугольник АВС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87280" y="5877000"/>
            <a:ext cx="50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116000" y="2637000"/>
            <a:ext cx="287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195640" y="1989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340000" y="472428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6154560" y="5373720"/>
            <a:ext cx="360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292720" y="2349360"/>
            <a:ext cx="244800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83280" y="2276640"/>
            <a:ext cx="5047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518160" y="2852640"/>
            <a:ext cx="1800" cy="273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2200" y="551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6445080" y="2708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7740720" y="2779560"/>
            <a:ext cx="1440" cy="2811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292720" y="2781360"/>
            <a:ext cx="144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732720" y="544500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659640" y="371628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443640" y="3860640"/>
            <a:ext cx="14292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859280" y="907920"/>
            <a:ext cx="403236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ечение цилиндра плоскостью, перпендикулярной к оси – круг с центром С радиуса r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H="1" rot="10800000">
            <a:off x="5292720" y="5592240"/>
            <a:ext cx="2448000" cy="50652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292720" y="5013360"/>
            <a:ext cx="2448000" cy="50652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 rot="10800000">
            <a:off x="611280" y="5447880"/>
            <a:ext cx="2448000" cy="50652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flipH="1" rot="10800000">
            <a:off x="5292720" y="3936600"/>
            <a:ext cx="2448000" cy="50652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611280" y="5013360"/>
            <a:ext cx="2448000" cy="50652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H="1">
            <a:off x="5292720" y="3429000"/>
            <a:ext cx="2448000" cy="506520"/>
          </a:xfrm>
          <a:custGeom>
            <a:avLst/>
            <a:gdLst>
              <a:gd name="textAreaLeft" fmla="*/ 360 w 2448000"/>
              <a:gd name="textAreaRight" fmla="*/ 2448720 w 2448000"/>
              <a:gd name="textAreaTop" fmla="*/ 0 h 506520"/>
              <a:gd name="textAreaBottom" fmla="*/ 506880 h 50652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981000"/>
            <a:ext cx="43164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981000"/>
            <a:ext cx="43200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dur="indefinite" fill="hold">
                      <p:stCondLst>
                        <p:cond delay="indefinite"/>
                      </p:stCondLst>
                      <p:childTnLst>
                        <p:par>
                          <p:cTn id="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 fill="hold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 fill="hold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fill="hold">
                      <p:stCondLst>
                        <p:cond delay="indefinite"/>
                      </p:stCondLst>
                      <p:childTnLst>
                        <p:par>
                          <p:cTn id="4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3000" fill="hold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 fill="hold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11280" y="333360"/>
            <a:ext cx="439272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Задача №527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836640"/>
            <a:ext cx="8820000" cy="23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онцы отрезка АВ лежат на окружностях оснований цилин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Радиус цилиндра равен r, его высота h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 расстояние между прямой 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 осью цилиндра равно d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Найдит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) h, если r = 10дм, d =8дм, АВ = 13д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99280" y="2131920"/>
            <a:ext cx="1800" cy="3167280"/>
          </a:xfrm>
          <a:custGeom>
            <a:avLst/>
            <a:gdLst/>
            <a:ahLst/>
            <a:rect l="l" t="t" r="r" b="b"/>
            <a:pathLst>
              <a:path w="6" h="8799">
                <a:moveTo>
                  <a:pt x="0" y="0"/>
                </a:moveTo>
                <a:lnTo>
                  <a:pt x="5" y="8798"/>
                </a:ln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2131920"/>
            <a:ext cx="1440" cy="3240360"/>
          </a:xfrm>
          <a:custGeom>
            <a:avLst/>
            <a:gdLst/>
            <a:ahLst/>
            <a:rect l="l" t="t" r="r" b="b"/>
            <a:pathLst>
              <a:path w="5" h="9002">
                <a:moveTo>
                  <a:pt x="0" y="0"/>
                </a:moveTo>
                <a:lnTo>
                  <a:pt x="4" y="9001"/>
                </a:lnTo>
              </a:path>
            </a:pathLst>
          </a:cu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148360" y="4724280"/>
            <a:ext cx="2952720" cy="57780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flipH="1" rot="10800000">
            <a:off x="5148360" y="5373360"/>
            <a:ext cx="2952720" cy="6476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2060640"/>
            <a:ext cx="1800" cy="3240000"/>
          </a:xfrm>
          <a:custGeom>
            <a:avLst/>
            <a:gdLst/>
            <a:ahLst/>
            <a:rect l="l" t="t" r="r" b="b"/>
            <a:pathLst>
              <a:path w="1" h="9001">
                <a:moveTo>
                  <a:pt x="0" y="0"/>
                </a:moveTo>
                <a:lnTo>
                  <a:pt x="0" y="9000"/>
                </a:lnTo>
              </a:path>
            </a:pathLst>
          </a:custGeom>
          <a:noFill/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19875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5148360" y="1484280"/>
            <a:ext cx="2952720" cy="57780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 rot="10800000">
            <a:off x="5148360" y="2061720"/>
            <a:ext cx="2952720" cy="6476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580000" y="1555920"/>
            <a:ext cx="576360" cy="4321080"/>
          </a:xfrm>
          <a:custGeom>
            <a:avLst/>
            <a:gdLst/>
            <a:ahLst/>
            <a:rect l="l" t="t" r="r" b="b"/>
            <a:pathLst>
              <a:path w="1602" h="12004">
                <a:moveTo>
                  <a:pt x="1601" y="0"/>
                </a:moveTo>
                <a:lnTo>
                  <a:pt x="0" y="12003"/>
                </a:lnTo>
              </a:path>
            </a:pathLst>
          </a:custGeom>
          <a:noFill/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5280" y="522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5732640"/>
            <a:ext cx="504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052640"/>
            <a:ext cx="504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530064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1628640"/>
            <a:ext cx="71892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1413000"/>
            <a:ext cx="14616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5734080"/>
            <a:ext cx="14580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dur="indefinite" fill="hold">
                      <p:stCondLst>
                        <p:cond delay="indefinite"/>
                      </p:stCondLst>
                      <p:childTnLst>
                        <p:par>
                          <p:cTn id="5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 fill="hold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 fill="hold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0" fill="hold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 fill="hold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 fill="hold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3000" fill="hold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 fill="hold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 fill="hold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 fill="hold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 fill="hold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 fill="hold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 fill="hold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3000" fill="hold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 fill="hold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0" fill="hold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3000" fill="hold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H="1">
            <a:off x="5649840" y="547560"/>
            <a:ext cx="579600" cy="43214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549360"/>
            <a:ext cx="576000" cy="4174920"/>
          </a:xfrm>
          <a:custGeom>
            <a:avLst/>
            <a:gdLst/>
            <a:ahLst/>
            <a:rect l="l" t="t" r="r" b="b"/>
            <a:pathLst>
              <a:path w="363" h="2630">
                <a:moveTo>
                  <a:pt x="363" y="2041"/>
                </a:moveTo>
                <a:lnTo>
                  <a:pt x="363" y="0"/>
                </a:lnTo>
                <a:lnTo>
                  <a:pt x="0" y="2630"/>
                </a:lnTo>
                <a:lnTo>
                  <a:pt x="363" y="204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1341360"/>
            <a:ext cx="399564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ак как ОО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ll ВС , то ОО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l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620640"/>
            <a:ext cx="576000" cy="4175280"/>
          </a:xfrm>
          <a:custGeom>
            <a:avLst/>
            <a:gdLst/>
            <a:ahLst/>
            <a:rect l="l" t="t" r="r" b="b"/>
            <a:pathLst>
              <a:path w="363" h="2630">
                <a:moveTo>
                  <a:pt x="363" y="2041"/>
                </a:moveTo>
                <a:lnTo>
                  <a:pt x="363" y="0"/>
                </a:lnTo>
                <a:lnTo>
                  <a:pt x="0" y="2630"/>
                </a:lnTo>
                <a:lnTo>
                  <a:pt x="363" y="204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0920" y="1123920"/>
            <a:ext cx="1440" cy="3166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1123920"/>
            <a:ext cx="1800" cy="3240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547560"/>
            <a:ext cx="1800" cy="3240360"/>
          </a:xfrm>
          <a:custGeom>
            <a:avLst/>
            <a:gdLst/>
            <a:ahLst/>
            <a:rect l="l" t="t" r="r" b="b"/>
            <a:pathLst>
              <a:path w="1" h="9002">
                <a:moveTo>
                  <a:pt x="0" y="0"/>
                </a:moveTo>
                <a:lnTo>
                  <a:pt x="0" y="9001"/>
                </a:lnTo>
              </a:path>
            </a:pathLst>
          </a:custGeom>
          <a:noFill/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21480" y="4363920"/>
            <a:ext cx="939600" cy="432000"/>
          </a:xfrm>
          <a:prstGeom prst="line">
            <a:avLst/>
          </a:prstGeom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5219640" y="3716280"/>
            <a:ext cx="2952720" cy="57780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 rot="10800000">
            <a:off x="5219640" y="4365360"/>
            <a:ext cx="2952720" cy="6476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1052640"/>
            <a:ext cx="1440" cy="32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86560" y="9795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5219640" y="476280"/>
            <a:ext cx="2952720" cy="57780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577800"/>
              <a:gd name="textAreaBottom" fmla="*/ 577800 h 57780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flipH="1" rot="10800000">
            <a:off x="5219640" y="1053720"/>
            <a:ext cx="2952720" cy="647640"/>
          </a:xfrm>
          <a:custGeom>
            <a:avLst/>
            <a:gdLst>
              <a:gd name="textAreaLeft" fmla="*/ 360 w 2952720"/>
              <a:gd name="textAreaRight" fmla="*/ 2953440 w 295272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fill="none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</a:path>
              <a:path stroke="0" w="43200" h="21645">
                <a:moveTo>
                  <a:pt x="0" y="21644"/>
                </a:moveTo>
                <a:cubicBezTo>
                  <a:pt x="0" y="21629"/>
                  <a:pt x="0" y="21614"/>
                  <a:pt x="0" y="21600"/>
                </a:cubicBezTo>
                <a:cubicBezTo>
                  <a:pt x="0" y="9670"/>
                  <a:pt x="9670" y="0"/>
                  <a:pt x="21600" y="0"/>
                </a:cubicBezTo>
                <a:cubicBezTo>
                  <a:pt x="33529" y="-1"/>
                  <a:pt x="43199" y="9670"/>
                  <a:pt x="43200" y="21599"/>
                </a:cubicBezTo>
                <a:lnTo>
                  <a:pt x="21600" y="21600"/>
                </a:lnTo>
                <a:close/>
              </a:path>
            </a:pathLst>
          </a:cu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012000" y="4148280"/>
            <a:ext cx="647640" cy="144360"/>
          </a:xfrm>
          <a:custGeom>
            <a:avLst/>
            <a:gdLst/>
            <a:ahLst/>
            <a:rect l="l" t="t" r="r" b="b"/>
            <a:pathLst>
              <a:path w="1800" h="402">
                <a:moveTo>
                  <a:pt x="1799" y="401"/>
                </a:moveTo>
                <a:lnTo>
                  <a:pt x="0" y="0"/>
                </a:lnTo>
              </a:path>
            </a:pathLst>
          </a:custGeom>
          <a:noFill/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649840" y="3787920"/>
            <a:ext cx="579600" cy="1008000"/>
          </a:xfrm>
          <a:prstGeom prst="line">
            <a:avLst/>
          </a:prstGeom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6560" y="4221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60280"/>
            <a:ext cx="3095640" cy="49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54560" y="47628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78560" y="4724280"/>
            <a:ext cx="142920" cy="144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3357720"/>
            <a:ext cx="360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486900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4221000"/>
            <a:ext cx="4320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620640"/>
            <a:ext cx="576000" cy="38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386064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2637000"/>
            <a:ext cx="5047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27640" y="3860640"/>
            <a:ext cx="358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508640"/>
            <a:ext cx="5050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9079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907920"/>
            <a:ext cx="3743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1) Проведем образующую В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1773360"/>
            <a:ext cx="43192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2) Проведем ОК перпендикулярно 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2133720"/>
            <a:ext cx="4897440" cy="22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Т.к. ОК и ОО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перпендикулярны и ОО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II ВС, то ОК и ВС перпендикулярны. Следовательно, ОК перпендикулярна к двум пересекающимся прямым АС и ВС плоскости АВС. Значит ОК перпендикулярна АВС и поэтому расстояние между прямыми АВ и ОО</a:t>
            </a:r>
            <a:r>
              <a:rPr b="0" lang="en-GB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 равно ОК, т. е. ОК=8д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5013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4672080"/>
                <a:ext cx="3384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АКО:АК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д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84360" y="4724280"/>
            <a:ext cx="431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149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227" y="0"/>
                </a:lnTo>
                <a:lnTo>
                  <a:pt x="635" y="90"/>
                </a:lnTo>
                <a:lnTo>
                  <a:pt x="0" y="40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544500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971640" y="5105520"/>
                <a:ext cx="3456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ΔАВС:ВС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д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4360" y="5157720"/>
            <a:ext cx="525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5805360"/>
            <a:ext cx="28796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Итак h = 5д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317080" y="544500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19906" y="10800"/>
                </a:lnTo>
                <a:lnTo>
                  <a:pt x="589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dur="indefinite" fill="hold">
                      <p:stCondLst>
                        <p:cond delay="indefinite"/>
                      </p:stCondLst>
                      <p:childTnLst>
                        <p:par>
                          <p:cTn id="10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 fill="hold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0" fill="hold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0" fill="hold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dur="indefinite" fill="hold">
                      <p:stCondLst>
                        <p:cond delay="indefinite"/>
                      </p:stCondLst>
                      <p:childTnLst>
                        <p:par>
                          <p:cTn id="11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 fill="hold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30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dur="indefinite" fill="hold">
                      <p:stCondLst>
                        <p:cond delay="indefinite"/>
                      </p:stCondLst>
                      <p:childTnLst>
                        <p:par>
                          <p:cTn id="1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 fill="hold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0" fill="hold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0" fill="hold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dur="indefinite" fill="hold">
                      <p:stCondLst>
                        <p:cond delay="indefinite"/>
                      </p:stCondLst>
                      <p:childTnLst>
                        <p:par>
                          <p:cTn id="1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 fill="hold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dur="indefinite" fill="hold">
                      <p:stCondLst>
                        <p:cond delay="indefinite"/>
                      </p:stCondLst>
                      <p:childTnLst>
                        <p:par>
                          <p:cTn id="14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 fill="hold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 fill="hold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dur="indefinite" fill="hold">
                      <p:stCondLst>
                        <p:cond delay="indefinite"/>
                      </p:stCondLst>
                      <p:childTnLst>
                        <p:par>
                          <p:cTn id="16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 fill="hold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dur="indefinite" fill="hold">
                      <p:stCondLst>
                        <p:cond delay="indefinite"/>
                      </p:stCondLst>
                      <p:childTnLst>
                        <p:par>
                          <p:cTn id="16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 fill="hold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 fill="hold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 fill="hold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dur="indefinite" fill="hold">
                      <p:stCondLst>
                        <p:cond delay="indefinite"/>
                      </p:stCondLst>
                      <p:childTnLst>
                        <p:par>
                          <p:cTn id="17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 fill="hold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404640"/>
            <a:ext cx="7416720" cy="11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008000"/>
                </a:solidFill>
                <a:latin typeface="Arial"/>
              </a:rPr>
              <a:t>Площадь боковой поверхности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58920" y="3429000"/>
            <a:ext cx="7561080" cy="145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3300"/>
                </a:solidFill>
                <a:latin typeface="Arial"/>
              </a:rPr>
              <a:t>За площадь боковой поверхности цилиндра принимается площадь ее развер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Мигунова</dc:creator>
  <dc:description/>
  <dc:language>en-US</dc:language>
  <cp:lastModifiedBy/>
  <cp:revision>0</cp:revision>
  <dc:subject/>
  <dc:title>Слайд 1</dc:title>
</cp:coreProperties>
</file>