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C12E-55AF-4339-BD54-17D13FD23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ализ условия задачи и составление плана ре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остоятельная работа с последующей провер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с последующей провер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монстрация моделей различных пирам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хождение учащимися элементов пирамиды на рисунке и на мод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C7A2-E209-4A03-B91B-EA23D43A6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664-5C90-4C9C-8A0D-374CC0A9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082-4E63-4F8B-B7C8-5A8813B1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165-88B2-40BA-B74E-BAD1DB17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605-FB1B-48B4-9D2D-A98A9948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9F8-9B42-48EC-A0A7-874B7641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E9E-3368-477D-B954-3B58DA67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C6E-5E15-43D3-9339-D0548824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7AB-5585-4ADC-8FB1-3C410908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0F5-F232-403D-A253-E3D3D414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BB8-FDD9-4D35-9CA6-E3F359CD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268-8066-4DF9-8B92-3BDCDD6A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6E5-31C2-4826-B4C9-9F58A0D5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5105-9EED-480A-8B0F-C3C77BFD6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ambov.fio.ru/vjpusk/vjp059/rabot/19/index.htm" TargetMode="External"/><Relationship Id="rId3" Type="http://schemas.openxmlformats.org/officeDocument/2006/relationships/hyperlink" Target="http://school-collection.edu.ru/dlrstore/867EA11E-0927-11DC-A9BD-DDC28AA48D0A/word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560" y="265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Arial"/>
              </a:rPr>
              <a:t>Пирами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72120" y="6013440"/>
            <a:ext cx="3808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Мигунов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71640" y="26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ешение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907920"/>
            <a:ext cx="8064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снованием пирамиды является параллелограмм со сторонами 5м и 4м и меньшей диагональю 3м. Высота пирамиды проходит через точку пересечения диагоналей основания и равна2м. Найдите площадь поверхности пирамид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7240" y="62928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00280" y="486396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/>
          <p:nvPr/>
        </p:nvCxnSpPr>
        <p:spPr>
          <a:xfrm flipV="1">
            <a:off x="946080" y="4874400"/>
            <a:ext cx="743760" cy="142956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232" name=""/>
          <p:cNvCxnSpPr>
            <a:stCxn id="229" idx="0"/>
            <a:endCxn id="230" idx="0"/>
          </p:cNvCxnSpPr>
          <p:nvPr/>
        </p:nvCxnSpPr>
        <p:spPr>
          <a:xfrm flipV="1">
            <a:off x="3776400" y="4882320"/>
            <a:ext cx="74340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 flipH="1">
            <a:off x="1692000" y="2689200"/>
            <a:ext cx="685800" cy="2179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968400" y="2668680"/>
            <a:ext cx="1409760" cy="359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78160" y="2646360"/>
            <a:ext cx="2122560" cy="222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78160" y="2646360"/>
            <a:ext cx="1401840" cy="366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9" idx="0"/>
            <a:endCxn id="235" idx="0"/>
          </p:cNvCxnSpPr>
          <p:nvPr/>
        </p:nvCxnSpPr>
        <p:spPr>
          <a:xfrm flipV="1">
            <a:off x="956880" y="4887720"/>
            <a:ext cx="3544200" cy="138600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689120" y="4873680"/>
            <a:ext cx="2076480" cy="139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720" y="615312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79800" y="63579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40320" y="4475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2600" y="441000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55840" y="230184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4280" y="633564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84360" y="63374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8680" y="51735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09840" y="2797200"/>
            <a:ext cx="301680" cy="27748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991040" y="48610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34080" y="343224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/>
          <p:nvPr/>
        </p:nvCxnSpPr>
        <p:spPr>
          <a:xfrm flipV="1">
            <a:off x="4979880" y="3443040"/>
            <a:ext cx="743760" cy="142920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252" name=""/>
          <p:cNvCxnSpPr>
            <a:stCxn id="249" idx="0"/>
            <a:endCxn id="250" idx="0"/>
          </p:cNvCxnSpPr>
          <p:nvPr/>
        </p:nvCxnSpPr>
        <p:spPr>
          <a:xfrm flipV="1">
            <a:off x="7810560" y="3450960"/>
            <a:ext cx="743760" cy="1429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5702400" y="1257480"/>
            <a:ext cx="23760" cy="2179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001840" y="1268280"/>
            <a:ext cx="700200" cy="356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13560" y="1268280"/>
            <a:ext cx="2820960" cy="21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11760" y="1268280"/>
            <a:ext cx="2102040" cy="360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49" idx="0"/>
            <a:endCxn id="255" idx="0"/>
          </p:cNvCxnSpPr>
          <p:nvPr/>
        </p:nvCxnSpPr>
        <p:spPr>
          <a:xfrm flipV="1">
            <a:off x="4990680" y="3455640"/>
            <a:ext cx="3544200" cy="13867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sp>
        <p:nvSpPr>
          <p:cNvPr id="258" name=""/>
          <p:cNvSpPr/>
          <p:nvPr/>
        </p:nvSpPr>
        <p:spPr>
          <a:xfrm>
            <a:off x="5722920" y="3441600"/>
            <a:ext cx="2076480" cy="139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92520" y="472140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13600" y="49258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574120" y="30430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70400" y="326880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54600" y="87012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89560" y="3441600"/>
            <a:ext cx="333360" cy="143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636960" y="4151160"/>
            <a:ext cx="9684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34080" y="1279440"/>
            <a:ext cx="892080" cy="353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48440" y="490392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18160" y="4905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02480" y="374184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76920" y="1322280"/>
            <a:ext cx="968400" cy="28180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00080" y="27936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6200" y="741240"/>
            <a:ext cx="534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ый (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го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авен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3040" y="1528920"/>
            <a:ext cx="4668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ы, следов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по теореме о трех перпендикуляр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о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∆M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8200" y="342108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∆MDO: MD=√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1,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13000" y="3487680"/>
            <a:ext cx="7412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8200" y="3754440"/>
            <a:ext cx="418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∆ADB: D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пендикуляр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DK=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D,DK=2,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F: OF║DK, OF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DK, OF= 1,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√M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O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0,4√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880" y="4646520"/>
            <a:ext cx="400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20760" y="5045040"/>
            <a:ext cx="892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51200" y="505620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3880" y="5432400"/>
            <a:ext cx="531324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M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2,5+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0,4·√34=10+2 √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с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и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(22+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3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1800" y="548640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38720" y="5486400"/>
            <a:ext cx="2160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22480" y="6315120"/>
            <a:ext cx="258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22920" y="3441600"/>
            <a:ext cx="2076480" cy="139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76920" y="1322280"/>
            <a:ext cx="968400" cy="281808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24520" y="3389400"/>
            <a:ext cx="2795400" cy="1473120"/>
          </a:xfrm>
          <a:custGeom>
            <a:avLst/>
            <a:gdLst/>
            <a:ahLst/>
            <a:rect l="l" t="t" r="r" b="b"/>
            <a:pathLst>
              <a:path w="1761" h="928">
                <a:moveTo>
                  <a:pt x="0" y="908"/>
                </a:moveTo>
                <a:lnTo>
                  <a:pt x="447" y="0"/>
                </a:lnTo>
                <a:lnTo>
                  <a:pt x="1761" y="928"/>
                </a:lnTo>
                <a:lnTo>
                  <a:pt x="0" y="908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150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9040" y="212760"/>
            <a:ext cx="70563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Задача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нованием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АВС, у которого АВ=АС=13см, ВС=10см. Реб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пендикулярно к плоскости основания и равно 9см. Найти площадь боковой поверхности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98680" y="2023920"/>
            <a:ext cx="0" cy="281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8400" y="4849920"/>
            <a:ext cx="3517560" cy="11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87520" y="2000160"/>
            <a:ext cx="3540240" cy="285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87520" y="4830840"/>
            <a:ext cx="28512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238360" y="4862520"/>
            <a:ext cx="677880" cy="140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87520" y="1990800"/>
            <a:ext cx="2840040" cy="427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90800" y="473400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75240" y="615312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91120" y="4668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63840" y="170964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322280" y="139680"/>
            <a:ext cx="23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1314360"/>
            <a:ext cx="0" cy="281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81360" y="4140360"/>
            <a:ext cx="3517920" cy="10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60840" y="1290600"/>
            <a:ext cx="3540240" cy="285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60840" y="4121280"/>
            <a:ext cx="28512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411680" y="4152960"/>
            <a:ext cx="677880" cy="140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60840" y="1281240"/>
            <a:ext cx="2840040" cy="427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64120" y="402444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164440" y="39592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37160" y="100008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454880" y="55926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4840" y="849240"/>
            <a:ext cx="43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Проведем АК перпендикулярно 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03680" y="4130640"/>
            <a:ext cx="3164040" cy="731880"/>
          </a:xfrm>
          <a:prstGeom prst="line">
            <a:avLst/>
          </a:prstGeom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443720" y="4808520"/>
            <a:ext cx="6516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27880" y="4954680"/>
            <a:ext cx="25884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96240" y="48625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520" y="1333440"/>
            <a:ext cx="39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пендикулярны (по теореме о трех перпендикулярах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26000" y="1324080"/>
            <a:ext cx="3141720" cy="35607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91400" y="4506840"/>
            <a:ext cx="16200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596000" y="4506840"/>
            <a:ext cx="8388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8200" y="2452680"/>
            <a:ext cx="399096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АВК: АК = √АВ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√144=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K=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) 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B = ADC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двум катет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 = 192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00160" y="251784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87720" y="252720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92200" y="31284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20720" y="795240"/>
            <a:ext cx="80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ите площадь боковой поверхности правильной шестиугольной пирамиды, если сторона ее основания равна а, а площадь боковой грани равна площади сечения, проведенного через вершину пирамиды и большую диагональ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84720" y="2301840"/>
            <a:ext cx="1797120" cy="3581280"/>
          </a:xfrm>
          <a:custGeom>
            <a:avLst/>
            <a:gdLst/>
            <a:ahLst/>
            <a:rect l="l" t="t" r="r" b="b"/>
            <a:pathLst>
              <a:path w="1132" h="2256">
                <a:moveTo>
                  <a:pt x="0" y="2256"/>
                </a:moveTo>
                <a:lnTo>
                  <a:pt x="603" y="0"/>
                </a:lnTo>
                <a:lnTo>
                  <a:pt x="1132" y="1369"/>
                </a:lnTo>
                <a:lnTo>
                  <a:pt x="0" y="225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689360" y="2301840"/>
            <a:ext cx="2894040" cy="3603600"/>
            <a:chOff x="4689360" y="2301840"/>
            <a:chExt cx="2894040" cy="3603600"/>
          </a:xfrm>
        </p:grpSpPr>
        <p:sp>
          <p:nvSpPr>
            <p:cNvPr id="333" name=""/>
            <p:cNvSpPr/>
            <p:nvPr/>
          </p:nvSpPr>
          <p:spPr>
            <a:xfrm flipH="1">
              <a:off x="4689360" y="2301840"/>
              <a:ext cx="146376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41960" y="2301840"/>
              <a:ext cx="143028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0520" y="5184720"/>
              <a:ext cx="48420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64200" y="5894280"/>
              <a:ext cx="140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538680" y="5162400"/>
              <a:ext cx="1044720" cy="7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721040" y="4464000"/>
              <a:ext cx="1281240" cy="698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2280" y="4476600"/>
              <a:ext cx="990720" cy="9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93000" y="4462560"/>
              <a:ext cx="547560" cy="71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013440" y="2313000"/>
              <a:ext cx="117360" cy="215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41960" y="2344680"/>
              <a:ext cx="851040" cy="21398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184360" y="2322360"/>
              <a:ext cx="957240" cy="358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1960" y="2344680"/>
              <a:ext cx="387360" cy="35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 flipV="1">
            <a:off x="5205240" y="4474800"/>
            <a:ext cx="1743120" cy="140796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141600" y="2355840"/>
            <a:ext cx="11160" cy="270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76920" y="2333520"/>
            <a:ext cx="365040" cy="354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776920" y="5130360"/>
            <a:ext cx="353880" cy="763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22880" y="49798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94200" y="595944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03760" y="598968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75320" y="59166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45120" y="507672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05720" y="49910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42040" y="4130640"/>
            <a:ext cx="3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59240" y="4216320"/>
            <a:ext cx="2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30800" y="183816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56280" y="577548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30200" y="19368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6520" y="878040"/>
                <a:ext cx="36097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668160" y="1535040"/>
                <a:ext cx="2714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о условию задачи: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677880" y="2252520"/>
                <a:ext cx="2847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ледовательно, 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rPr>
                        <m:lit/>
                        <m:nor/>
                      </m:rPr>
                      <m:t xml:space="preserve"> и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K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90400" y="2795760"/>
                <a:ext cx="1533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OK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O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892080" y="4395960"/>
                <a:ext cx="14097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5326200" y="1279440"/>
            <a:ext cx="1796760" cy="3581640"/>
          </a:xfrm>
          <a:custGeom>
            <a:avLst/>
            <a:gdLst/>
            <a:ahLst/>
            <a:rect l="l" t="t" r="r" b="b"/>
            <a:pathLst>
              <a:path w="1132" h="2256">
                <a:moveTo>
                  <a:pt x="0" y="2256"/>
                </a:moveTo>
                <a:lnTo>
                  <a:pt x="603" y="0"/>
                </a:lnTo>
                <a:lnTo>
                  <a:pt x="1132" y="1369"/>
                </a:lnTo>
                <a:lnTo>
                  <a:pt x="0" y="225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830840" y="1279440"/>
            <a:ext cx="2894040" cy="3603600"/>
            <a:chOff x="4830840" y="1279440"/>
            <a:chExt cx="2894040" cy="3603600"/>
          </a:xfrm>
        </p:grpSpPr>
        <p:sp>
          <p:nvSpPr>
            <p:cNvPr id="374" name=""/>
            <p:cNvSpPr/>
            <p:nvPr/>
          </p:nvSpPr>
          <p:spPr>
            <a:xfrm flipH="1">
              <a:off x="4830840" y="1279440"/>
              <a:ext cx="146376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83440" y="1279440"/>
              <a:ext cx="1430280" cy="28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42000" y="4162320"/>
              <a:ext cx="48420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05680" y="4871880"/>
              <a:ext cx="140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680160" y="4140000"/>
              <a:ext cx="1044720" cy="7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862520" y="3441600"/>
              <a:ext cx="1281240" cy="698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43760" y="3454200"/>
              <a:ext cx="990720" cy="9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34480" y="3440160"/>
              <a:ext cx="547560" cy="71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154920" y="1290600"/>
              <a:ext cx="117360" cy="2151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83440" y="1322280"/>
              <a:ext cx="851040" cy="21398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325840" y="1299960"/>
              <a:ext cx="957240" cy="358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83440" y="1322280"/>
              <a:ext cx="387360" cy="35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V="1">
            <a:off x="5346720" y="3452760"/>
            <a:ext cx="1743120" cy="140832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283080" y="1333440"/>
            <a:ext cx="11160" cy="2710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917680" y="1311120"/>
            <a:ext cx="365400" cy="354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64000" y="39574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35680" y="493704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16800" y="48942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86600" y="40543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46840" y="396864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83520" y="310824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00720" y="3193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72280" y="81612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97760" y="475308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54600" y="497844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44400" y="3699000"/>
                <a:ext cx="2676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  <m:r>
                      <m:rPr>
                        <m:lit/>
                        <m:nor/>
                      </m:rPr>
                      <m:t xml:space="preserve">MOK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 flipV="1">
            <a:off x="5918040" y="4107960"/>
            <a:ext cx="354240" cy="763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26200" y="1322280"/>
            <a:ext cx="1365120" cy="3549600"/>
          </a:xfrm>
          <a:custGeom>
            <a:avLst/>
            <a:gdLst/>
            <a:ahLst/>
            <a:rect l="l" t="t" r="r" b="b"/>
            <a:pathLst>
              <a:path w="860" h="2236">
                <a:moveTo>
                  <a:pt x="0" y="2236"/>
                </a:moveTo>
                <a:lnTo>
                  <a:pt x="596" y="0"/>
                </a:lnTo>
                <a:lnTo>
                  <a:pt x="860" y="2236"/>
                </a:lnTo>
                <a:lnTo>
                  <a:pt x="0" y="223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13240" y="4121280"/>
            <a:ext cx="968400" cy="752400"/>
          </a:xfrm>
          <a:custGeom>
            <a:avLst/>
            <a:gdLst/>
            <a:ahLst/>
            <a:rect l="l" t="t" r="r" b="b"/>
            <a:pathLst>
              <a:path w="603" h="461">
                <a:moveTo>
                  <a:pt x="0" y="447"/>
                </a:moveTo>
                <a:lnTo>
                  <a:pt x="603" y="0"/>
                </a:lnTo>
                <a:lnTo>
                  <a:pt x="386" y="461"/>
                </a:lnTo>
                <a:lnTo>
                  <a:pt x="0" y="447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05440" y="1290600"/>
            <a:ext cx="366840" cy="3549600"/>
          </a:xfrm>
          <a:custGeom>
            <a:avLst/>
            <a:gdLst/>
            <a:ahLst/>
            <a:rect l="l" t="t" r="r" b="b"/>
            <a:pathLst>
              <a:path w="231" h="2236">
                <a:moveTo>
                  <a:pt x="0" y="2236"/>
                </a:moveTo>
                <a:lnTo>
                  <a:pt x="231" y="0"/>
                </a:lnTo>
                <a:lnTo>
                  <a:pt x="231" y="1776"/>
                </a:lnTo>
                <a:lnTo>
                  <a:pt x="0" y="223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515960" y="49536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Домашнее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79560" y="1689120"/>
            <a:ext cx="75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 28, 29, задачи 248, 2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31840" y="2655720"/>
            <a:ext cx="650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равочные материа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ногогра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firstslide"/>
          </p:cNvPr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57440" y="247680"/>
            <a:ext cx="35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Цели и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236600"/>
            <a:ext cx="782172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вести понятие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азать теорему о площади боковой поверхности правильной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задачи, связанные с пирамидой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7800" y="2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28440" y="1500120"/>
            <a:ext cx="71434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пределение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Элементы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равильная 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лощадь поверхности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Определение п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71320" y="1357200"/>
            <a:ext cx="835812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гранник, составленны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ьника 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угольников, называется пирами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9"/>
          <p:cNvGrpSpPr/>
          <p:nvPr/>
        </p:nvGrpSpPr>
        <p:grpSpPr>
          <a:xfrm>
            <a:off x="1213920" y="3357720"/>
            <a:ext cx="1872000" cy="2087640"/>
            <a:chOff x="1213920" y="3357720"/>
            <a:chExt cx="1872000" cy="2087640"/>
          </a:xfrm>
        </p:grpSpPr>
        <p:sp>
          <p:nvSpPr>
            <p:cNvPr id="58" name="Line 16"/>
            <p:cNvSpPr/>
            <p:nvPr/>
          </p:nvSpPr>
          <p:spPr>
            <a:xfrm flipH="1">
              <a:off x="1645920" y="3357720"/>
              <a:ext cx="432000" cy="20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>
              <a:off x="2077920" y="3429000"/>
              <a:ext cx="431640" cy="20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>
              <a:off x="2077920" y="3357720"/>
              <a:ext cx="100800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H="1">
              <a:off x="1213920" y="3357720"/>
              <a:ext cx="863640" cy="165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2077920" y="3357720"/>
              <a:ext cx="647640" cy="1439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>
              <a:off x="1933200" y="3357720"/>
              <a:ext cx="144720" cy="1366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22"/>
            <p:cNvCxnSpPr>
              <a:stCxn id="61" idx="0"/>
              <a:endCxn id="58" idx="0"/>
            </p:cNvCxnSpPr>
            <p:nvPr/>
          </p:nvCxnSpPr>
          <p:spPr>
            <a:xfrm>
              <a:off x="1213920" y="5013000"/>
              <a:ext cx="432360" cy="432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5" name="AutoShape 23"/>
            <p:cNvCxnSpPr>
              <a:stCxn id="58" idx="1"/>
              <a:endCxn id="59" idx="0"/>
            </p:cNvCxnSpPr>
            <p:nvPr/>
          </p:nvCxnSpPr>
          <p:spPr>
            <a:xfrm>
              <a:off x="1645560" y="5444640"/>
              <a:ext cx="8643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6" name="AutoShape 24"/>
            <p:cNvCxnSpPr>
              <a:stCxn id="58" idx="1"/>
              <a:endCxn id="59" idx="1"/>
            </p:cNvCxnSpPr>
            <p:nvPr/>
          </p:nvCxnSpPr>
          <p:spPr>
            <a:xfrm>
              <a:off x="1645560" y="5444640"/>
              <a:ext cx="8643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7" name="AutoShape 25"/>
            <p:cNvCxnSpPr>
              <a:stCxn id="59" idx="1"/>
              <a:endCxn id="60" idx="0"/>
            </p:cNvCxnSpPr>
            <p:nvPr/>
          </p:nvCxnSpPr>
          <p:spPr>
            <a:xfrm flipV="1">
              <a:off x="2509200" y="5012640"/>
              <a:ext cx="577080" cy="432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8" name="AutoShape 26"/>
            <p:cNvCxnSpPr>
              <a:stCxn id="61" idx="1"/>
              <a:endCxn id="63" idx="0"/>
            </p:cNvCxnSpPr>
            <p:nvPr/>
          </p:nvCxnSpPr>
          <p:spPr>
            <a:xfrm flipV="1">
              <a:off x="1214280" y="4723920"/>
              <a:ext cx="721440" cy="28944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69" name="AutoShape 27"/>
            <p:cNvCxnSpPr>
              <a:stCxn id="63" idx="1"/>
              <a:endCxn id="62" idx="0"/>
            </p:cNvCxnSpPr>
            <p:nvPr/>
          </p:nvCxnSpPr>
          <p:spPr>
            <a:xfrm>
              <a:off x="1935000" y="4723920"/>
              <a:ext cx="791280" cy="7380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70" name="AutoShape 28"/>
            <p:cNvCxnSpPr>
              <a:stCxn id="62" idx="1"/>
              <a:endCxn id="60" idx="1"/>
            </p:cNvCxnSpPr>
            <p:nvPr/>
          </p:nvCxnSpPr>
          <p:spPr>
            <a:xfrm>
              <a:off x="2725200" y="4797360"/>
              <a:ext cx="361080" cy="21672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</p:grpSp>
      <p:grpSp>
        <p:nvGrpSpPr>
          <p:cNvPr id="71" name="Group 15"/>
          <p:cNvGrpSpPr/>
          <p:nvPr/>
        </p:nvGrpSpPr>
        <p:grpSpPr>
          <a:xfrm>
            <a:off x="5714640" y="3143160"/>
            <a:ext cx="1728000" cy="2376720"/>
            <a:chOff x="5714640" y="3143160"/>
            <a:chExt cx="1728000" cy="2376720"/>
          </a:xfrm>
        </p:grpSpPr>
        <p:sp>
          <p:nvSpPr>
            <p:cNvPr id="72" name="Line 4"/>
            <p:cNvSpPr/>
            <p:nvPr/>
          </p:nvSpPr>
          <p:spPr>
            <a:xfrm flipH="1">
              <a:off x="5714640" y="3143160"/>
              <a:ext cx="57636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6291360" y="3143160"/>
              <a:ext cx="71928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6"/>
            <p:cNvCxnSpPr>
              <a:stCxn id="72" idx="0"/>
              <a:endCxn id="73" idx="0"/>
            </p:cNvCxnSpPr>
            <p:nvPr/>
          </p:nvCxnSpPr>
          <p:spPr>
            <a:xfrm>
              <a:off x="5716800" y="5519160"/>
              <a:ext cx="1294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75" name="AutoShape 8"/>
            <p:cNvCxnSpPr>
              <a:stCxn id="72" idx="1"/>
              <a:endCxn id="73" idx="1"/>
            </p:cNvCxnSpPr>
            <p:nvPr/>
          </p:nvCxnSpPr>
          <p:spPr>
            <a:xfrm>
              <a:off x="5716800" y="5519160"/>
              <a:ext cx="1294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76" name="Line 9"/>
            <p:cNvSpPr/>
            <p:nvPr/>
          </p:nvSpPr>
          <p:spPr>
            <a:xfrm flipV="1">
              <a:off x="5715000" y="4654080"/>
              <a:ext cx="432000" cy="8650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7010640" y="4654080"/>
              <a:ext cx="43164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11"/>
            <p:cNvCxnSpPr>
              <a:stCxn id="76" idx="0"/>
              <a:endCxn id="77" idx="0"/>
            </p:cNvCxnSpPr>
            <p:nvPr/>
          </p:nvCxnSpPr>
          <p:spPr>
            <a:xfrm>
              <a:off x="6147000" y="4655520"/>
              <a:ext cx="1296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9" name="Line 13"/>
            <p:cNvSpPr/>
            <p:nvPr/>
          </p:nvSpPr>
          <p:spPr>
            <a:xfrm flipH="1" flipV="1">
              <a:off x="6291000" y="3143160"/>
              <a:ext cx="115092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6146640" y="3214440"/>
              <a:ext cx="144360" cy="144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67240" y="3807000"/>
            <a:ext cx="1646280" cy="1322280"/>
          </a:xfrm>
          <a:custGeom>
            <a:avLst/>
            <a:gdLst/>
            <a:ahLst/>
            <a:rect l="l" t="t" r="r" b="b"/>
            <a:pathLst>
              <a:path w="1037" h="833">
                <a:moveTo>
                  <a:pt x="1037" y="0"/>
                </a:moveTo>
                <a:lnTo>
                  <a:pt x="0" y="833"/>
                </a:lnTo>
                <a:lnTo>
                  <a:pt x="617" y="643"/>
                </a:lnTo>
                <a:lnTo>
                  <a:pt x="1037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15120" y="3797280"/>
            <a:ext cx="1635120" cy="1117800"/>
          </a:xfrm>
          <a:custGeom>
            <a:avLst/>
            <a:gdLst/>
            <a:ahLst/>
            <a:rect l="l" t="t" r="r" b="b"/>
            <a:pathLst>
              <a:path w="1030" h="704">
                <a:moveTo>
                  <a:pt x="440" y="0"/>
                </a:moveTo>
                <a:lnTo>
                  <a:pt x="0" y="650"/>
                </a:lnTo>
                <a:lnTo>
                  <a:pt x="1030" y="704"/>
                </a:lnTo>
                <a:lnTo>
                  <a:pt x="44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72680" y="1374840"/>
            <a:ext cx="50324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угольник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.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угольники - боковые гр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ка Р – вершина пирами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езки 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…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ковые ребра пирами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пендикуляр, проведенны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шины пирамиды к основан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той пирами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Элементы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Прямая со стрелкой 38"/>
          <p:cNvCxnSpPr/>
          <p:nvPr/>
        </p:nvCxnSpPr>
        <p:spPr>
          <a:xfrm>
            <a:off x="3785760" y="3357720"/>
            <a:ext cx="3164760" cy="4291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7" name="Прямая со стрелкой 44"/>
          <p:cNvCxnSpPr/>
          <p:nvPr/>
        </p:nvCxnSpPr>
        <p:spPr>
          <a:xfrm>
            <a:off x="3500280" y="4214520"/>
            <a:ext cx="2786760" cy="1436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8" name="Прямая со стрелкой 52"/>
          <p:cNvCxnSpPr/>
          <p:nvPr/>
        </p:nvCxnSpPr>
        <p:spPr>
          <a:xfrm flipV="1">
            <a:off x="4071960" y="4785840"/>
            <a:ext cx="2929680" cy="2865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9" name=""/>
          <p:cNvSpPr/>
          <p:nvPr/>
        </p:nvSpPr>
        <p:spPr>
          <a:xfrm>
            <a:off x="5367240" y="4851360"/>
            <a:ext cx="2571840" cy="871560"/>
          </a:xfrm>
          <a:custGeom>
            <a:avLst/>
            <a:gdLst/>
            <a:ahLst/>
            <a:rect l="l" t="t" r="r" b="b"/>
            <a:pathLst>
              <a:path w="1620" h="549">
                <a:moveTo>
                  <a:pt x="0" y="197"/>
                </a:moveTo>
                <a:lnTo>
                  <a:pt x="610" y="0"/>
                </a:lnTo>
                <a:lnTo>
                  <a:pt x="1620" y="54"/>
                </a:lnTo>
                <a:lnTo>
                  <a:pt x="1322" y="461"/>
                </a:lnTo>
                <a:lnTo>
                  <a:pt x="461" y="549"/>
                </a:lnTo>
                <a:lnTo>
                  <a:pt x="0" y="19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4"/>
          <p:cNvGrpSpPr/>
          <p:nvPr/>
        </p:nvGrpSpPr>
        <p:grpSpPr>
          <a:xfrm>
            <a:off x="4428720" y="3429000"/>
            <a:ext cx="4393080" cy="2879640"/>
            <a:chOff x="4428720" y="3429000"/>
            <a:chExt cx="4393080" cy="2879640"/>
          </a:xfrm>
        </p:grpSpPr>
        <p:sp>
          <p:nvSpPr>
            <p:cNvPr id="91" name="Line 4"/>
            <p:cNvSpPr/>
            <p:nvPr/>
          </p:nvSpPr>
          <p:spPr>
            <a:xfrm flipH="1">
              <a:off x="6084720" y="3789000"/>
              <a:ext cx="936360" cy="19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"/>
            <p:cNvSpPr/>
            <p:nvPr/>
          </p:nvSpPr>
          <p:spPr>
            <a:xfrm flipH="1">
              <a:off x="5365440" y="3789000"/>
              <a:ext cx="1655640" cy="13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7021440" y="3789000"/>
              <a:ext cx="936720" cy="11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7"/>
            <p:cNvSpPr/>
            <p:nvPr/>
          </p:nvSpPr>
          <p:spPr>
            <a:xfrm>
              <a:off x="7021440" y="3789000"/>
              <a:ext cx="43200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AutoShape 8"/>
            <p:cNvCxnSpPr>
              <a:stCxn id="92" idx="0"/>
              <a:endCxn id="91" idx="0"/>
            </p:cNvCxnSpPr>
            <p:nvPr/>
          </p:nvCxnSpPr>
          <p:spPr>
            <a:xfrm>
              <a:off x="5367240" y="5155920"/>
              <a:ext cx="71856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" name="AutoShape 10"/>
            <p:cNvCxnSpPr>
              <a:stCxn id="91" idx="1"/>
              <a:endCxn id="94" idx="0"/>
            </p:cNvCxnSpPr>
            <p:nvPr/>
          </p:nvCxnSpPr>
          <p:spPr>
            <a:xfrm flipV="1">
              <a:off x="6084720" y="5589000"/>
              <a:ext cx="1369080" cy="14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" name="AutoShape 11"/>
            <p:cNvCxnSpPr>
              <a:stCxn id="94" idx="1"/>
              <a:endCxn id="93" idx="0"/>
            </p:cNvCxnSpPr>
            <p:nvPr/>
          </p:nvCxnSpPr>
          <p:spPr>
            <a:xfrm flipV="1">
              <a:off x="7453440" y="4939200"/>
              <a:ext cx="505440" cy="64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" name="Line 12"/>
            <p:cNvSpPr/>
            <p:nvPr/>
          </p:nvSpPr>
          <p:spPr>
            <a:xfrm flipH="1">
              <a:off x="6300720" y="3789000"/>
              <a:ext cx="719280" cy="107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AutoShape 13"/>
            <p:cNvCxnSpPr>
              <a:stCxn id="98" idx="0"/>
              <a:endCxn id="92" idx="1"/>
            </p:cNvCxnSpPr>
            <p:nvPr/>
          </p:nvCxnSpPr>
          <p:spPr>
            <a:xfrm flipH="1">
              <a:off x="5366880" y="4868280"/>
              <a:ext cx="93600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00" name="AutoShape 14"/>
            <p:cNvCxnSpPr>
              <a:stCxn id="98" idx="1"/>
              <a:endCxn id="93" idx="1"/>
            </p:cNvCxnSpPr>
            <p:nvPr/>
          </p:nvCxnSpPr>
          <p:spPr>
            <a:xfrm>
              <a:off x="6302160" y="4868280"/>
              <a:ext cx="1656360" cy="716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01" name="Line 15"/>
            <p:cNvSpPr/>
            <p:nvPr/>
          </p:nvSpPr>
          <p:spPr>
            <a:xfrm flipH="1">
              <a:off x="4428720" y="4292280"/>
              <a:ext cx="86364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7957800" y="4292280"/>
              <a:ext cx="86364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7021440" y="3860640"/>
              <a:ext cx="0" cy="129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5"/>
            <p:cNvGrpSpPr/>
            <p:nvPr/>
          </p:nvGrpSpPr>
          <p:grpSpPr>
            <a:xfrm>
              <a:off x="5292720" y="4292280"/>
              <a:ext cx="3529080" cy="0"/>
              <a:chOff x="5292720" y="4292280"/>
              <a:chExt cx="3529080" cy="0"/>
            </a:xfrm>
          </p:grpSpPr>
          <p:sp>
            <p:nvSpPr>
              <p:cNvPr id="105" name="Line 18"/>
              <p:cNvSpPr/>
              <p:nvPr/>
            </p:nvSpPr>
            <p:spPr>
              <a:xfrm>
                <a:off x="5292720" y="4292280"/>
                <a:ext cx="11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9"/>
              <p:cNvSpPr/>
              <p:nvPr/>
            </p:nvSpPr>
            <p:spPr>
              <a:xfrm>
                <a:off x="6550200" y="429228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7524720" y="4292280"/>
                <a:ext cx="129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Line 26"/>
            <p:cNvSpPr/>
            <p:nvPr/>
          </p:nvSpPr>
          <p:spPr>
            <a:xfrm>
              <a:off x="4429080" y="630864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7"/>
            <p:cNvSpPr/>
            <p:nvPr/>
          </p:nvSpPr>
          <p:spPr>
            <a:xfrm>
              <a:off x="5005440" y="508464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5724720" y="573228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308720" y="558936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5942160" y="450828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6589800" y="49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2"/>
            <p:cNvSpPr/>
            <p:nvPr/>
          </p:nvSpPr>
          <p:spPr>
            <a:xfrm>
              <a:off x="8245440" y="436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3"/>
            <p:cNvSpPr/>
            <p:nvPr/>
          </p:nvSpPr>
          <p:spPr>
            <a:xfrm>
              <a:off x="6516720" y="3429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032600" y="3807000"/>
            <a:ext cx="936720" cy="1763640"/>
          </a:xfrm>
          <a:custGeom>
            <a:avLst/>
            <a:gdLst/>
            <a:ahLst/>
            <a:rect l="l" t="t" r="r" b="b"/>
            <a:pathLst>
              <a:path w="590" h="1111">
                <a:moveTo>
                  <a:pt x="0" y="0"/>
                </a:moveTo>
                <a:lnTo>
                  <a:pt x="590" y="704"/>
                </a:lnTo>
                <a:lnTo>
                  <a:pt x="285" y="1111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9120" y="3798720"/>
            <a:ext cx="1398600" cy="1893960"/>
          </a:xfrm>
          <a:custGeom>
            <a:avLst/>
            <a:gdLst/>
            <a:ahLst/>
            <a:rect l="l" t="t" r="r" b="b"/>
            <a:pathLst>
              <a:path w="881" h="1193">
                <a:moveTo>
                  <a:pt x="576" y="0"/>
                </a:moveTo>
                <a:lnTo>
                  <a:pt x="0" y="1193"/>
                </a:lnTo>
                <a:lnTo>
                  <a:pt x="881" y="1105"/>
                </a:lnTo>
                <a:lnTo>
                  <a:pt x="576" y="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7240" y="3809880"/>
            <a:ext cx="1613160" cy="1903680"/>
          </a:xfrm>
          <a:custGeom>
            <a:avLst/>
            <a:gdLst/>
            <a:ahLst/>
            <a:rect l="l" t="t" r="r" b="b"/>
            <a:pathLst>
              <a:path w="1016" h="1199">
                <a:moveTo>
                  <a:pt x="0" y="847"/>
                </a:moveTo>
                <a:cubicBezTo>
                  <a:pt x="9" y="834"/>
                  <a:pt x="15" y="817"/>
                  <a:pt x="27" y="806"/>
                </a:cubicBezTo>
                <a:cubicBezTo>
                  <a:pt x="49" y="787"/>
                  <a:pt x="47" y="809"/>
                  <a:pt x="47" y="793"/>
                </a:cubicBezTo>
                <a:lnTo>
                  <a:pt x="1016" y="0"/>
                </a:lnTo>
                <a:lnTo>
                  <a:pt x="440" y="1199"/>
                </a:lnTo>
                <a:lnTo>
                  <a:pt x="0" y="847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31120" y="5994360"/>
            <a:ext cx="566640" cy="59544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440"/>
              <a:gd name="textAreaBottom" fmla="*/ 558720 h 595440"/>
            </a:gdLst>
            <a:ahLst/>
            <a:rect l="textAreaLeft" t="textAreaTop" r="textAreaRight" b="textAreaBottom"/>
            <a:pathLst>
              <a:path w="21600" h="22697">
                <a:moveTo>
                  <a:pt x="0" y="0"/>
                </a:moveTo>
                <a:lnTo>
                  <a:pt x="21600" y="0"/>
                </a:lnTo>
                <a:lnTo>
                  <a:pt x="21600" y="22697"/>
                </a:lnTo>
                <a:lnTo>
                  <a:pt x="0" y="22697"/>
                </a:lnTo>
                <a:close/>
              </a:path>
              <a:path fill="lightenLess" w="21600" h="22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7">
                <a:moveTo>
                  <a:pt x="21600" y="0"/>
                </a:moveTo>
                <a:lnTo>
                  <a:pt x="21600" y="22697"/>
                </a:lnTo>
                <a:lnTo>
                  <a:pt x="20200" y="21297"/>
                </a:lnTo>
                <a:lnTo>
                  <a:pt x="20200" y="1400"/>
                </a:lnTo>
                <a:close/>
              </a:path>
              <a:path fill="darkenLess" w="21600" h="22697">
                <a:moveTo>
                  <a:pt x="21600" y="22697"/>
                </a:moveTo>
                <a:lnTo>
                  <a:pt x="0" y="22697"/>
                </a:lnTo>
                <a:lnTo>
                  <a:pt x="1400" y="21297"/>
                </a:lnTo>
                <a:lnTo>
                  <a:pt x="20200" y="21297"/>
                </a:lnTo>
                <a:close/>
              </a:path>
              <a:path fill="lighten" w="21600" h="22697">
                <a:moveTo>
                  <a:pt x="0" y="22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7"/>
                </a:lnTo>
                <a:close/>
              </a:path>
              <a:path fill="darken" w="21600" h="22697">
                <a:moveTo>
                  <a:pt x="10800" y="4386"/>
                </a:moveTo>
                <a:lnTo>
                  <a:pt x="13376" y="6997"/>
                </a:lnTo>
                <a:lnTo>
                  <a:pt x="13376" y="5256"/>
                </a:lnTo>
                <a:lnTo>
                  <a:pt x="15152" y="5256"/>
                </a:lnTo>
                <a:lnTo>
                  <a:pt x="15152" y="8772"/>
                </a:lnTo>
                <a:lnTo>
                  <a:pt x="17763" y="11349"/>
                </a:lnTo>
                <a:lnTo>
                  <a:pt x="16109" y="11349"/>
                </a:lnTo>
                <a:lnTo>
                  <a:pt x="16109" y="18538"/>
                </a:lnTo>
                <a:lnTo>
                  <a:pt x="5491" y="18538"/>
                </a:lnTo>
                <a:lnTo>
                  <a:pt x="5491" y="11349"/>
                </a:lnTo>
                <a:lnTo>
                  <a:pt x="3837" y="11349"/>
                </a:lnTo>
                <a:close/>
              </a:path>
              <a:path fill="darkenLess" w="21600" h="22697">
                <a:moveTo>
                  <a:pt x="13376" y="6997"/>
                </a:moveTo>
                <a:lnTo>
                  <a:pt x="13376" y="5256"/>
                </a:lnTo>
                <a:lnTo>
                  <a:pt x="15152" y="5256"/>
                </a:lnTo>
                <a:lnTo>
                  <a:pt x="15152" y="8772"/>
                </a:lnTo>
                <a:close/>
              </a:path>
              <a:path fill="darkenLess" w="21600" h="22697">
                <a:moveTo>
                  <a:pt x="9877" y="14847"/>
                </a:moveTo>
                <a:lnTo>
                  <a:pt x="11723" y="14847"/>
                </a:lnTo>
                <a:lnTo>
                  <a:pt x="11723" y="18538"/>
                </a:lnTo>
                <a:lnTo>
                  <a:pt x="16109" y="18538"/>
                </a:lnTo>
                <a:lnTo>
                  <a:pt x="16109" y="11349"/>
                </a:lnTo>
                <a:lnTo>
                  <a:pt x="5491" y="11349"/>
                </a:lnTo>
                <a:lnTo>
                  <a:pt x="5491" y="18538"/>
                </a:lnTo>
                <a:lnTo>
                  <a:pt x="9877" y="1853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81400" y="4067280"/>
            <a:ext cx="2365200" cy="2238120"/>
          </a:xfrm>
          <a:custGeom>
            <a:avLst/>
            <a:gdLst/>
            <a:ahLst/>
            <a:rect l="l" t="t" r="r" b="b"/>
            <a:pathLst>
              <a:path w="1490" h="1410">
                <a:moveTo>
                  <a:pt x="0" y="359"/>
                </a:moveTo>
                <a:lnTo>
                  <a:pt x="847" y="0"/>
                </a:lnTo>
                <a:lnTo>
                  <a:pt x="1490" y="502"/>
                </a:lnTo>
                <a:lnTo>
                  <a:pt x="1443" y="949"/>
                </a:lnTo>
                <a:lnTo>
                  <a:pt x="643" y="1410"/>
                </a:lnTo>
                <a:lnTo>
                  <a:pt x="20" y="1085"/>
                </a:lnTo>
                <a:lnTo>
                  <a:pt x="0" y="35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3319560" y="2992320"/>
            <a:ext cx="1079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4327560" y="299232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4398840" y="299232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4398840" y="299232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4"/>
          <p:cNvSpPr/>
          <p:nvPr/>
        </p:nvSpPr>
        <p:spPr>
          <a:xfrm flipH="1">
            <a:off x="3246120" y="2992320"/>
            <a:ext cx="1152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55"/>
          <p:cNvCxnSpPr>
            <a:stCxn id="122" idx="0"/>
            <a:endCxn id="121" idx="0"/>
          </p:cNvCxnSpPr>
          <p:nvPr/>
        </p:nvCxnSpPr>
        <p:spPr>
          <a:xfrm flipH="1" flipV="1">
            <a:off x="3319200" y="5800320"/>
            <a:ext cx="1010160" cy="505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7" name="AutoShape 56"/>
          <p:cNvCxnSpPr/>
          <p:nvPr/>
        </p:nvCxnSpPr>
        <p:spPr>
          <a:xfrm flipH="1" flipV="1">
            <a:off x="3269520" y="4647960"/>
            <a:ext cx="73800" cy="1152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8" name="AutoShape 57"/>
          <p:cNvCxnSpPr>
            <a:stCxn id="122" idx="1"/>
            <a:endCxn id="123" idx="0"/>
          </p:cNvCxnSpPr>
          <p:nvPr/>
        </p:nvCxnSpPr>
        <p:spPr>
          <a:xfrm flipV="1">
            <a:off x="4329000" y="5584320"/>
            <a:ext cx="12232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AutoShape 58"/>
          <p:cNvCxnSpPr/>
          <p:nvPr/>
        </p:nvCxnSpPr>
        <p:spPr>
          <a:xfrm flipV="1">
            <a:off x="5575320" y="4863600"/>
            <a:ext cx="720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" name="Line 59"/>
          <p:cNvSpPr/>
          <p:nvPr/>
        </p:nvSpPr>
        <p:spPr>
          <a:xfrm>
            <a:off x="4398840" y="3063960"/>
            <a:ext cx="21600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60"/>
          <p:cNvCxnSpPr/>
          <p:nvPr/>
        </p:nvCxnSpPr>
        <p:spPr>
          <a:xfrm flipV="1">
            <a:off x="3269880" y="4071240"/>
            <a:ext cx="1369080" cy="57708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cxnSp>
        <p:nvCxnSpPr>
          <p:cNvPr id="132" name="AutoShape 61"/>
          <p:cNvCxnSpPr/>
          <p:nvPr/>
        </p:nvCxnSpPr>
        <p:spPr>
          <a:xfrm>
            <a:off x="4638600" y="4071960"/>
            <a:ext cx="1008720" cy="792720"/>
          </a:xfrm>
          <a:prstGeom prst="straightConnector1">
            <a:avLst/>
          </a:prstGeom>
          <a:ln w="38160">
            <a:solidFill>
              <a:srgbClr val="000000"/>
            </a:solidFill>
            <a:prstDash val="dash"/>
            <a:miter/>
          </a:ln>
        </p:spPr>
      </p:cxnSp>
      <p:sp>
        <p:nvSpPr>
          <p:cNvPr id="133" name="Line 67"/>
          <p:cNvSpPr/>
          <p:nvPr/>
        </p:nvSpPr>
        <p:spPr>
          <a:xfrm>
            <a:off x="4398840" y="3137040"/>
            <a:ext cx="144720" cy="201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68"/>
          <p:cNvCxnSpPr/>
          <p:nvPr/>
        </p:nvCxnSpPr>
        <p:spPr>
          <a:xfrm flipV="1">
            <a:off x="3343320" y="5152320"/>
            <a:ext cx="122472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35" name="Text Box 70"/>
          <p:cNvSpPr/>
          <p:nvPr/>
        </p:nvSpPr>
        <p:spPr>
          <a:xfrm>
            <a:off x="4495680" y="41450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1"/>
          <p:cNvSpPr/>
          <p:nvPr/>
        </p:nvSpPr>
        <p:spPr>
          <a:xfrm>
            <a:off x="2814480" y="43610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2"/>
          <p:cNvSpPr/>
          <p:nvPr/>
        </p:nvSpPr>
        <p:spPr>
          <a:xfrm>
            <a:off x="4038480" y="63403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3"/>
          <p:cNvSpPr/>
          <p:nvPr/>
        </p:nvSpPr>
        <p:spPr>
          <a:xfrm>
            <a:off x="2814480" y="56563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5"/>
          <p:cNvSpPr/>
          <p:nvPr/>
        </p:nvSpPr>
        <p:spPr>
          <a:xfrm flipH="1">
            <a:off x="3750840" y="3063960"/>
            <a:ext cx="647640" cy="29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6"/>
          <p:cNvSpPr/>
          <p:nvPr/>
        </p:nvSpPr>
        <p:spPr>
          <a:xfrm>
            <a:off x="4495680" y="5008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7"/>
          <p:cNvSpPr/>
          <p:nvPr/>
        </p:nvSpPr>
        <p:spPr>
          <a:xfrm>
            <a:off x="4265640" y="2554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5"/>
          <p:cNvSpPr/>
          <p:nvPr/>
        </p:nvSpPr>
        <p:spPr>
          <a:xfrm>
            <a:off x="3413160" y="6064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H="1">
            <a:off x="3319560" y="2992320"/>
            <a:ext cx="1079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H="1">
            <a:off x="4327560" y="299232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>
            <a:off x="4398840" y="299232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4398840" y="299232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4"/>
          <p:cNvSpPr/>
          <p:nvPr/>
        </p:nvSpPr>
        <p:spPr>
          <a:xfrm flipH="1">
            <a:off x="3246120" y="2992320"/>
            <a:ext cx="1152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5"/>
          <p:cNvSpPr/>
          <p:nvPr/>
        </p:nvSpPr>
        <p:spPr>
          <a:xfrm flipH="1">
            <a:off x="3750840" y="3063960"/>
            <a:ext cx="647640" cy="295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6"/>
          <p:cNvSpPr/>
          <p:nvPr/>
        </p:nvSpPr>
        <p:spPr>
          <a:xfrm>
            <a:off x="4495680" y="50086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0"/>
          <p:cNvSpPr/>
          <p:nvPr/>
        </p:nvSpPr>
        <p:spPr>
          <a:xfrm flipH="1">
            <a:off x="4327560" y="299232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1"/>
          <p:cNvSpPr/>
          <p:nvPr/>
        </p:nvSpPr>
        <p:spPr>
          <a:xfrm>
            <a:off x="4398840" y="299232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2"/>
          <p:cNvSpPr/>
          <p:nvPr/>
        </p:nvSpPr>
        <p:spPr>
          <a:xfrm>
            <a:off x="4398840" y="299232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4"/>
          <p:cNvSpPr/>
          <p:nvPr/>
        </p:nvSpPr>
        <p:spPr>
          <a:xfrm flipH="1">
            <a:off x="3246120" y="2992320"/>
            <a:ext cx="1152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9"/>
          <p:cNvSpPr/>
          <p:nvPr/>
        </p:nvSpPr>
        <p:spPr>
          <a:xfrm flipH="1">
            <a:off x="3319560" y="2992320"/>
            <a:ext cx="1079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0"/>
          <p:cNvSpPr/>
          <p:nvPr/>
        </p:nvSpPr>
        <p:spPr>
          <a:xfrm flipH="1">
            <a:off x="4327560" y="299232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1"/>
          <p:cNvSpPr/>
          <p:nvPr/>
        </p:nvSpPr>
        <p:spPr>
          <a:xfrm>
            <a:off x="4398840" y="299232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2"/>
          <p:cNvSpPr/>
          <p:nvPr/>
        </p:nvSpPr>
        <p:spPr>
          <a:xfrm>
            <a:off x="4398840" y="299232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4"/>
          <p:cNvSpPr/>
          <p:nvPr/>
        </p:nvSpPr>
        <p:spPr>
          <a:xfrm flipH="1">
            <a:off x="3246120" y="2992320"/>
            <a:ext cx="1152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57"/>
          <p:cNvCxnSpPr/>
          <p:nvPr/>
        </p:nvCxnSpPr>
        <p:spPr>
          <a:xfrm flipV="1">
            <a:off x="4329000" y="5584320"/>
            <a:ext cx="122328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0" name="AutoShape 58"/>
          <p:cNvCxnSpPr/>
          <p:nvPr/>
        </p:nvCxnSpPr>
        <p:spPr>
          <a:xfrm flipV="1">
            <a:off x="5575320" y="4863600"/>
            <a:ext cx="7200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1" name="Line 75"/>
          <p:cNvSpPr/>
          <p:nvPr/>
        </p:nvSpPr>
        <p:spPr>
          <a:xfrm flipH="1">
            <a:off x="3750840" y="3063960"/>
            <a:ext cx="647640" cy="295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9"/>
          <p:cNvSpPr/>
          <p:nvPr/>
        </p:nvSpPr>
        <p:spPr>
          <a:xfrm flipH="1">
            <a:off x="3319560" y="2992320"/>
            <a:ext cx="107928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0"/>
          <p:cNvSpPr/>
          <p:nvPr/>
        </p:nvSpPr>
        <p:spPr>
          <a:xfrm flipH="1">
            <a:off x="4327560" y="2992320"/>
            <a:ext cx="7128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1"/>
          <p:cNvSpPr/>
          <p:nvPr/>
        </p:nvSpPr>
        <p:spPr>
          <a:xfrm>
            <a:off x="4398840" y="2992320"/>
            <a:ext cx="115272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2"/>
          <p:cNvSpPr/>
          <p:nvPr/>
        </p:nvSpPr>
        <p:spPr>
          <a:xfrm>
            <a:off x="4398840" y="2992320"/>
            <a:ext cx="122400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4"/>
          <p:cNvSpPr/>
          <p:nvPr/>
        </p:nvSpPr>
        <p:spPr>
          <a:xfrm flipH="1">
            <a:off x="3246120" y="2992320"/>
            <a:ext cx="1152360" cy="16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557280" y="13968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Прави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9680" y="960480"/>
            <a:ext cx="80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а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ильной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ее осно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й многоугольник, а отрез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единяющий вершину пирамид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центром основания, является ее выс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97640" y="5541840"/>
            <a:ext cx="2313000" cy="1094040"/>
          </a:xfrm>
          <a:prstGeom prst="wedgeRectCallout">
            <a:avLst>
              <a:gd name="adj1" fmla="val -108407"/>
              <a:gd name="adj2" fmla="val -373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а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ьный много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9840" y="3314880"/>
            <a:ext cx="1623960" cy="672840"/>
          </a:xfrm>
          <a:prstGeom prst="wedgeRectCallout">
            <a:avLst>
              <a:gd name="adj1" fmla="val -206013"/>
              <a:gd name="adj2" fmla="val 221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8520" y="4573440"/>
            <a:ext cx="2754360" cy="2151360"/>
          </a:xfrm>
          <a:prstGeom prst="wedgeRectCallout">
            <a:avLst>
              <a:gd name="adj1" fmla="val 87925"/>
              <a:gd name="adj2" fmla="val -23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боковой грани правильной пирамиды, проведенная из ее вер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зывается апофем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7480" y="5099040"/>
            <a:ext cx="96840" cy="119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45520" y="34776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Площадь боковой поверхности правильной пирам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528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ма. Площадь боковой поверхности правильной пирамиды равна половине произведения периметра основания на апофем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9"/>
          <p:cNvSpPr/>
          <p:nvPr/>
        </p:nvSpPr>
        <p:spPr>
          <a:xfrm flipH="1">
            <a:off x="4780080" y="2651040"/>
            <a:ext cx="107928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0"/>
          <p:cNvSpPr/>
          <p:nvPr/>
        </p:nvSpPr>
        <p:spPr>
          <a:xfrm flipH="1">
            <a:off x="5788080" y="265104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5859360" y="265104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2"/>
          <p:cNvSpPr/>
          <p:nvPr/>
        </p:nvSpPr>
        <p:spPr>
          <a:xfrm>
            <a:off x="5859360" y="265104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4"/>
          <p:cNvSpPr/>
          <p:nvPr/>
        </p:nvSpPr>
        <p:spPr>
          <a:xfrm flipH="1">
            <a:off x="4706640" y="2651040"/>
            <a:ext cx="1152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AutoShape 55"/>
          <p:cNvCxnSpPr>
            <a:stCxn id="177" idx="0"/>
            <a:endCxn id="176" idx="0"/>
          </p:cNvCxnSpPr>
          <p:nvPr/>
        </p:nvCxnSpPr>
        <p:spPr>
          <a:xfrm flipH="1" flipV="1">
            <a:off x="4779720" y="5459040"/>
            <a:ext cx="1010160" cy="50544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182" name="AutoShape 56"/>
          <p:cNvCxnSpPr>
            <a:stCxn id="176" idx="1"/>
            <a:endCxn id="180" idx="0"/>
          </p:cNvCxnSpPr>
          <p:nvPr/>
        </p:nvCxnSpPr>
        <p:spPr>
          <a:xfrm flipH="1" flipV="1">
            <a:off x="4706280" y="4306680"/>
            <a:ext cx="73800" cy="115272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183" name="AutoShape 57"/>
          <p:cNvCxnSpPr>
            <a:stCxn id="177" idx="1"/>
            <a:endCxn id="178" idx="0"/>
          </p:cNvCxnSpPr>
          <p:nvPr/>
        </p:nvCxnSpPr>
        <p:spPr>
          <a:xfrm flipV="1">
            <a:off x="5789520" y="5243040"/>
            <a:ext cx="1223280" cy="72144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184" name="AutoShape 58"/>
          <p:cNvCxnSpPr>
            <a:stCxn id="178" idx="1"/>
            <a:endCxn id="179" idx="0"/>
          </p:cNvCxnSpPr>
          <p:nvPr/>
        </p:nvCxnSpPr>
        <p:spPr>
          <a:xfrm flipV="1">
            <a:off x="7012080" y="4522320"/>
            <a:ext cx="72000" cy="72144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sp>
        <p:nvSpPr>
          <p:cNvPr id="185" name="Line 59"/>
          <p:cNvSpPr/>
          <p:nvPr/>
        </p:nvSpPr>
        <p:spPr>
          <a:xfrm>
            <a:off x="5859360" y="272268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60"/>
          <p:cNvCxnSpPr>
            <a:stCxn id="180" idx="1"/>
            <a:endCxn id="185" idx="0"/>
          </p:cNvCxnSpPr>
          <p:nvPr/>
        </p:nvCxnSpPr>
        <p:spPr>
          <a:xfrm flipV="1">
            <a:off x="4706640" y="3729960"/>
            <a:ext cx="1369080" cy="577080"/>
          </a:xfrm>
          <a:prstGeom prst="straightConnector1">
            <a:avLst/>
          </a:prstGeom>
          <a:ln w="9360">
            <a:solidFill>
              <a:srgbClr val="008000"/>
            </a:solidFill>
            <a:prstDash val="dash"/>
            <a:miter/>
          </a:ln>
        </p:spPr>
      </p:cxnSp>
      <p:cxnSp>
        <p:nvCxnSpPr>
          <p:cNvPr id="187" name="AutoShape 61"/>
          <p:cNvCxnSpPr>
            <a:stCxn id="185" idx="1"/>
            <a:endCxn id="179" idx="1"/>
          </p:cNvCxnSpPr>
          <p:nvPr/>
        </p:nvCxnSpPr>
        <p:spPr>
          <a:xfrm>
            <a:off x="6075360" y="3730680"/>
            <a:ext cx="1008720" cy="792720"/>
          </a:xfrm>
          <a:prstGeom prst="straightConnector1">
            <a:avLst/>
          </a:prstGeom>
          <a:ln w="9360">
            <a:solidFill>
              <a:srgbClr val="008000"/>
            </a:solidFill>
            <a:prstDash val="dash"/>
            <a:miter/>
          </a:ln>
        </p:spPr>
      </p:cxnSp>
      <p:sp>
        <p:nvSpPr>
          <p:cNvPr id="188" name="Line 67"/>
          <p:cNvSpPr/>
          <p:nvPr/>
        </p:nvSpPr>
        <p:spPr>
          <a:xfrm>
            <a:off x="5859360" y="2795760"/>
            <a:ext cx="14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68"/>
          <p:cNvCxnSpPr>
            <a:stCxn id="176" idx="1"/>
            <a:endCxn id="188" idx="0"/>
          </p:cNvCxnSpPr>
          <p:nvPr/>
        </p:nvCxnSpPr>
        <p:spPr>
          <a:xfrm flipV="1">
            <a:off x="4780080" y="4811040"/>
            <a:ext cx="122472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90" name="Text Box 70"/>
          <p:cNvSpPr/>
          <p:nvPr/>
        </p:nvSpPr>
        <p:spPr>
          <a:xfrm>
            <a:off x="5932440" y="38037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1"/>
          <p:cNvSpPr/>
          <p:nvPr/>
        </p:nvSpPr>
        <p:spPr>
          <a:xfrm>
            <a:off x="4275000" y="40194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2"/>
          <p:cNvSpPr/>
          <p:nvPr/>
        </p:nvSpPr>
        <p:spPr>
          <a:xfrm>
            <a:off x="5499000" y="60357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3"/>
          <p:cNvSpPr/>
          <p:nvPr/>
        </p:nvSpPr>
        <p:spPr>
          <a:xfrm>
            <a:off x="4275000" y="53150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5"/>
          <p:cNvSpPr/>
          <p:nvPr/>
        </p:nvSpPr>
        <p:spPr>
          <a:xfrm flipH="1">
            <a:off x="5211360" y="2722680"/>
            <a:ext cx="647640" cy="2952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6"/>
          <p:cNvSpPr/>
          <p:nvPr/>
        </p:nvSpPr>
        <p:spPr>
          <a:xfrm>
            <a:off x="5932440" y="46674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5"/>
          <p:cNvSpPr/>
          <p:nvPr/>
        </p:nvSpPr>
        <p:spPr>
          <a:xfrm>
            <a:off x="4944960" y="5722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6"/>
          <p:cNvSpPr/>
          <p:nvPr/>
        </p:nvSpPr>
        <p:spPr>
          <a:xfrm>
            <a:off x="5659560" y="2436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49"/>
          <p:cNvSpPr/>
          <p:nvPr/>
        </p:nvSpPr>
        <p:spPr>
          <a:xfrm flipH="1">
            <a:off x="6356520" y="1195560"/>
            <a:ext cx="107928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0"/>
          <p:cNvSpPr/>
          <p:nvPr/>
        </p:nvSpPr>
        <p:spPr>
          <a:xfrm flipH="1">
            <a:off x="7364520" y="1195560"/>
            <a:ext cx="712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1"/>
          <p:cNvSpPr/>
          <p:nvPr/>
        </p:nvSpPr>
        <p:spPr>
          <a:xfrm>
            <a:off x="7435800" y="1195560"/>
            <a:ext cx="1152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2"/>
          <p:cNvSpPr/>
          <p:nvPr/>
        </p:nvSpPr>
        <p:spPr>
          <a:xfrm>
            <a:off x="7435800" y="1195560"/>
            <a:ext cx="1224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4"/>
          <p:cNvSpPr/>
          <p:nvPr/>
        </p:nvSpPr>
        <p:spPr>
          <a:xfrm flipH="1">
            <a:off x="6283080" y="1195560"/>
            <a:ext cx="1152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AutoShape 55"/>
          <p:cNvCxnSpPr>
            <a:stCxn id="200" idx="0"/>
            <a:endCxn id="199" idx="0"/>
          </p:cNvCxnSpPr>
          <p:nvPr/>
        </p:nvCxnSpPr>
        <p:spPr>
          <a:xfrm flipH="1" flipV="1">
            <a:off x="6356160" y="4002840"/>
            <a:ext cx="1010160" cy="50580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205" name="AutoShape 56"/>
          <p:cNvCxnSpPr>
            <a:stCxn id="199" idx="1"/>
            <a:endCxn id="203" idx="0"/>
          </p:cNvCxnSpPr>
          <p:nvPr/>
        </p:nvCxnSpPr>
        <p:spPr>
          <a:xfrm flipH="1" flipV="1">
            <a:off x="6282720" y="2850840"/>
            <a:ext cx="73800" cy="115272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206" name="AutoShape 57"/>
          <p:cNvCxnSpPr>
            <a:stCxn id="200" idx="1"/>
            <a:endCxn id="201" idx="0"/>
          </p:cNvCxnSpPr>
          <p:nvPr/>
        </p:nvCxnSpPr>
        <p:spPr>
          <a:xfrm flipV="1">
            <a:off x="7365960" y="3787560"/>
            <a:ext cx="1223280" cy="72144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cxnSp>
        <p:nvCxnSpPr>
          <p:cNvPr id="207" name="AutoShape 58"/>
          <p:cNvCxnSpPr>
            <a:stCxn id="201" idx="1"/>
            <a:endCxn id="202" idx="0"/>
          </p:cNvCxnSpPr>
          <p:nvPr/>
        </p:nvCxnSpPr>
        <p:spPr>
          <a:xfrm flipV="1">
            <a:off x="8588520" y="3066840"/>
            <a:ext cx="72000" cy="721440"/>
          </a:xfrm>
          <a:prstGeom prst="straightConnector1">
            <a:avLst/>
          </a:prstGeom>
          <a:ln w="9360">
            <a:solidFill>
              <a:srgbClr val="008000"/>
            </a:solidFill>
            <a:miter/>
          </a:ln>
        </p:spPr>
      </p:cxnSp>
      <p:sp>
        <p:nvSpPr>
          <p:cNvPr id="208" name="Line 59"/>
          <p:cNvSpPr/>
          <p:nvPr/>
        </p:nvSpPr>
        <p:spPr>
          <a:xfrm>
            <a:off x="7435800" y="126684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60"/>
          <p:cNvCxnSpPr>
            <a:stCxn id="203" idx="1"/>
            <a:endCxn id="208" idx="0"/>
          </p:cNvCxnSpPr>
          <p:nvPr/>
        </p:nvCxnSpPr>
        <p:spPr>
          <a:xfrm flipV="1">
            <a:off x="6283080" y="2274120"/>
            <a:ext cx="1369080" cy="577080"/>
          </a:xfrm>
          <a:prstGeom prst="straightConnector1">
            <a:avLst/>
          </a:prstGeom>
          <a:ln w="9360">
            <a:solidFill>
              <a:srgbClr val="008000"/>
            </a:solidFill>
            <a:prstDash val="dash"/>
            <a:miter/>
          </a:ln>
        </p:spPr>
      </p:cxnSp>
      <p:cxnSp>
        <p:nvCxnSpPr>
          <p:cNvPr id="210" name="AutoShape 61"/>
          <p:cNvCxnSpPr>
            <a:stCxn id="208" idx="1"/>
            <a:endCxn id="202" idx="1"/>
          </p:cNvCxnSpPr>
          <p:nvPr/>
        </p:nvCxnSpPr>
        <p:spPr>
          <a:xfrm>
            <a:off x="7651800" y="2274480"/>
            <a:ext cx="1008720" cy="793080"/>
          </a:xfrm>
          <a:prstGeom prst="straightConnector1">
            <a:avLst/>
          </a:prstGeom>
          <a:ln w="9360">
            <a:solidFill>
              <a:srgbClr val="008000"/>
            </a:solidFill>
            <a:prstDash val="dash"/>
            <a:miter/>
          </a:ln>
        </p:spPr>
      </p:cxnSp>
      <p:sp>
        <p:nvSpPr>
          <p:cNvPr id="211" name="Line 67"/>
          <p:cNvSpPr/>
          <p:nvPr/>
        </p:nvSpPr>
        <p:spPr>
          <a:xfrm>
            <a:off x="7435800" y="1339920"/>
            <a:ext cx="14436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68"/>
          <p:cNvCxnSpPr>
            <a:stCxn id="199" idx="1"/>
            <a:endCxn id="211" idx="0"/>
          </p:cNvCxnSpPr>
          <p:nvPr/>
        </p:nvCxnSpPr>
        <p:spPr>
          <a:xfrm flipV="1">
            <a:off x="6356160" y="3355200"/>
            <a:ext cx="122436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13" name="Text Box 70"/>
          <p:cNvSpPr/>
          <p:nvPr/>
        </p:nvSpPr>
        <p:spPr>
          <a:xfrm>
            <a:off x="7508880" y="234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1"/>
          <p:cNvSpPr/>
          <p:nvPr/>
        </p:nvSpPr>
        <p:spPr>
          <a:xfrm>
            <a:off x="5851440" y="25639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2"/>
          <p:cNvSpPr/>
          <p:nvPr/>
        </p:nvSpPr>
        <p:spPr>
          <a:xfrm>
            <a:off x="7075440" y="45799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3"/>
          <p:cNvSpPr/>
          <p:nvPr/>
        </p:nvSpPr>
        <p:spPr>
          <a:xfrm>
            <a:off x="5851440" y="38592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5"/>
          <p:cNvSpPr/>
          <p:nvPr/>
        </p:nvSpPr>
        <p:spPr>
          <a:xfrm flipH="1">
            <a:off x="6787800" y="1266840"/>
            <a:ext cx="647640" cy="2952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6"/>
          <p:cNvSpPr/>
          <p:nvPr/>
        </p:nvSpPr>
        <p:spPr>
          <a:xfrm>
            <a:off x="7508880" y="32115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5"/>
          <p:cNvSpPr/>
          <p:nvPr/>
        </p:nvSpPr>
        <p:spPr>
          <a:xfrm>
            <a:off x="6521400" y="4267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6"/>
          <p:cNvSpPr/>
          <p:nvPr/>
        </p:nvSpPr>
        <p:spPr>
          <a:xfrm>
            <a:off x="7236000" y="981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2060640"/>
            <a:ext cx="5182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Доказать: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9900"/>
                </a:solidFill>
                <a:latin typeface="Arial"/>
              </a:rPr>
              <a:t>бок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½P</a:t>
            </a:r>
            <a:r>
              <a:rPr b="0" lang="en-US" sz="18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oc</a:t>
            </a:r>
            <a:r>
              <a:rPr b="0" lang="ru-RU" sz="1800" spc="-1" strike="noStrike" baseline="-25000">
                <a:solidFill>
                  <a:srgbClr val="009900"/>
                </a:solidFill>
                <a:latin typeface="Arial"/>
                <a:ea typeface="Arial"/>
              </a:rPr>
              <a:t>н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·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4869000"/>
            <a:ext cx="5545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·½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PE=½(n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·PE=½P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с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Площадь полной поверхности п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4200" y="1428840"/>
            <a:ext cx="871560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ю полной поверхности пирамиды называется сумма  площадей всех ее граней (т. е. основания и боковых граней) , а площадью боковой поверхности пирамиды – сумма площадей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44000" y="5732640"/>
            <a:ext cx="566640" cy="595080"/>
          </a:xfrm>
          <a:custGeom>
            <a:avLst/>
            <a:gdLst>
              <a:gd name="textAreaLeft" fmla="*/ 36720 w 566640"/>
              <a:gd name="textAreaRight" fmla="*/ 529920 w 566640"/>
              <a:gd name="textAreaTop" fmla="*/ 36720 h 595080"/>
              <a:gd name="textAreaBottom" fmla="*/ 558360 h 595080"/>
            </a:gdLst>
            <a:ahLst/>
            <a:rect l="textAreaLeft" t="textAreaTop" r="textAreaRight" b="textAreaBottom"/>
            <a:pathLst>
              <a:path w="21600" h="22683">
                <a:moveTo>
                  <a:pt x="0" y="0"/>
                </a:moveTo>
                <a:lnTo>
                  <a:pt x="21600" y="0"/>
                </a:lnTo>
                <a:lnTo>
                  <a:pt x="21600" y="22683"/>
                </a:lnTo>
                <a:lnTo>
                  <a:pt x="0" y="22683"/>
                </a:lnTo>
                <a:close/>
              </a:path>
              <a:path fill="lightenLess" w="21600" h="226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3">
                <a:moveTo>
                  <a:pt x="21600" y="0"/>
                </a:moveTo>
                <a:lnTo>
                  <a:pt x="21600" y="22683"/>
                </a:lnTo>
                <a:lnTo>
                  <a:pt x="20200" y="21283"/>
                </a:lnTo>
                <a:lnTo>
                  <a:pt x="20200" y="1400"/>
                </a:lnTo>
                <a:close/>
              </a:path>
              <a:path fill="darkenLess" w="21600" h="22683">
                <a:moveTo>
                  <a:pt x="21600" y="22683"/>
                </a:moveTo>
                <a:lnTo>
                  <a:pt x="0" y="22683"/>
                </a:lnTo>
                <a:lnTo>
                  <a:pt x="1400" y="21283"/>
                </a:lnTo>
                <a:lnTo>
                  <a:pt x="20200" y="21283"/>
                </a:lnTo>
                <a:close/>
              </a:path>
              <a:path fill="lighten" w="21600" h="22683">
                <a:moveTo>
                  <a:pt x="0" y="226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3"/>
                </a:lnTo>
                <a:close/>
              </a:path>
              <a:path fill="darken" w="21600" h="22683">
                <a:moveTo>
                  <a:pt x="10800" y="4379"/>
                </a:moveTo>
                <a:lnTo>
                  <a:pt x="13376" y="6990"/>
                </a:ln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lnTo>
                  <a:pt x="17763" y="11342"/>
                </a:lnTo>
                <a:lnTo>
                  <a:pt x="16109" y="11342"/>
                </a:lnTo>
                <a:lnTo>
                  <a:pt x="16109" y="18531"/>
                </a:lnTo>
                <a:lnTo>
                  <a:pt x="5491" y="18531"/>
                </a:lnTo>
                <a:lnTo>
                  <a:pt x="5491" y="11342"/>
                </a:lnTo>
                <a:lnTo>
                  <a:pt x="3837" y="11342"/>
                </a:lnTo>
                <a:close/>
              </a:path>
              <a:path fill="darkenLess" w="21600" h="22683">
                <a:moveTo>
                  <a:pt x="13376" y="6990"/>
                </a:moveTo>
                <a:lnTo>
                  <a:pt x="13376" y="5249"/>
                </a:lnTo>
                <a:lnTo>
                  <a:pt x="15152" y="5249"/>
                </a:lnTo>
                <a:lnTo>
                  <a:pt x="15152" y="8765"/>
                </a:lnTo>
                <a:close/>
              </a:path>
              <a:path fill="darkenLess" w="21600" h="22683">
                <a:moveTo>
                  <a:pt x="9877" y="14841"/>
                </a:moveTo>
                <a:lnTo>
                  <a:pt x="11723" y="14841"/>
                </a:lnTo>
                <a:lnTo>
                  <a:pt x="11723" y="18531"/>
                </a:lnTo>
                <a:lnTo>
                  <a:pt x="16109" y="18531"/>
                </a:lnTo>
                <a:lnTo>
                  <a:pt x="16109" y="11342"/>
                </a:lnTo>
                <a:lnTo>
                  <a:pt x="5491" y="11342"/>
                </a:lnTo>
                <a:lnTo>
                  <a:pt x="5491" y="18531"/>
                </a:lnTo>
                <a:lnTo>
                  <a:pt x="9877" y="1853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1:43:24Z</dcterms:created>
  <dc:creator>Евгений</dc:creator>
  <dc:description/>
  <dc:language>en-US</dc:language>
  <cp:lastModifiedBy>Мигунова</cp:lastModifiedBy>
  <dcterms:modified xsi:type="dcterms:W3CDTF">2007-06-29T09:14:00Z</dcterms:modified>
  <cp:revision>32</cp:revision>
  <dc:subject/>
  <dc:title>Слайд 1</dc:title>
</cp:coreProperties>
</file>