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581-A658-4A97-B944-735EAB5E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B68-1520-4764-96FF-909B715D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320-7B48-4D5F-AC41-21C2C0B3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F63-2235-47B8-9967-819C8C60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454-39A5-4A34-AEED-1A7656C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0D4-CE2A-4315-A1B0-F7DF5259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8DB-E51B-498F-97D8-0A9D7D48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C1D-9944-4966-9414-7EB41505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618-08DE-4AC1-8640-196CB6EA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0A0-FC7B-4931-99EC-8354456F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385-A3DF-4F3C-8753-E11EB93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ADC-AD09-4D38-84ED-73FE52F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6E84-6509-4543-A626-C26C54B4C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38600" y="2457360"/>
            <a:ext cx="2467080" cy="3051360"/>
          </a:xfrm>
          <a:custGeom>
            <a:avLst/>
            <a:gdLst/>
            <a:ahLst/>
            <a:rect l="l" t="t" r="r" b="b"/>
            <a:pathLst>
              <a:path w="1554" h="1943">
                <a:moveTo>
                  <a:pt x="1547" y="0"/>
                </a:moveTo>
                <a:lnTo>
                  <a:pt x="83" y="1041"/>
                </a:lnTo>
                <a:lnTo>
                  <a:pt x="0" y="1943"/>
                </a:lnTo>
                <a:lnTo>
                  <a:pt x="1485" y="1943"/>
                </a:lnTo>
                <a:lnTo>
                  <a:pt x="1554" y="4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143240" y="1300320"/>
            <a:ext cx="4105440" cy="5184720"/>
            <a:chOff x="4143240" y="1300320"/>
            <a:chExt cx="4105440" cy="5184720"/>
          </a:xfrm>
        </p:grpSpPr>
        <p:sp>
          <p:nvSpPr>
            <p:cNvPr id="43" name=""/>
            <p:cNvSpPr/>
            <p:nvPr/>
          </p:nvSpPr>
          <p:spPr>
            <a:xfrm flipH="1">
              <a:off x="4143240" y="1300320"/>
              <a:ext cx="216072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6159240" y="1300320"/>
              <a:ext cx="14436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43240" y="5189400"/>
              <a:ext cx="2016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6159240" y="4108320"/>
              <a:ext cx="208908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143240" y="4108320"/>
              <a:ext cx="410544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03960" y="1300320"/>
              <a:ext cx="194472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65240" y="297000"/>
            <a:ext cx="8670960" cy="703800"/>
          </a:xfrm>
          <a:prstGeom prst="rect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построения сечений ищем отрезки, по которым секущая плоскость пересекает каждую гра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1920" y="485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04480" y="419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4440" y="6318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2200" y="107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8440" y="3675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12240" y="20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6440" y="5802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0680" y="1366920"/>
                <a:ext cx="2251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20680" y="1938240"/>
                <a:ext cx="2251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33280" y="2587680"/>
                <a:ext cx="2225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H="1">
            <a:off x="4770360" y="2489040"/>
            <a:ext cx="2301840" cy="162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60920" y="4087800"/>
            <a:ext cx="109440" cy="149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322000" y="4054320"/>
            <a:ext cx="2503800" cy="17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16120" y="5168880"/>
            <a:ext cx="3325680" cy="87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84240" y="5508360"/>
            <a:ext cx="669780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54561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0680" y="3182760"/>
                <a:ext cx="2251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4672080" y="5519880"/>
            <a:ext cx="2357280" cy="10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07400" y="2489040"/>
            <a:ext cx="87120" cy="304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05200" y="4011480"/>
            <a:ext cx="14472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240516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95760" y="5479920"/>
            <a:ext cx="14436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224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36200" y="566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38600" y="2897280"/>
            <a:ext cx="2951280" cy="2678040"/>
          </a:xfrm>
          <a:custGeom>
            <a:avLst/>
            <a:gdLst/>
            <a:ahLst/>
            <a:rect l="l" t="t" r="r" b="b"/>
            <a:pathLst>
              <a:path w="1859" h="1687">
                <a:moveTo>
                  <a:pt x="1693" y="0"/>
                </a:moveTo>
                <a:lnTo>
                  <a:pt x="1859" y="1228"/>
                </a:lnTo>
                <a:lnTo>
                  <a:pt x="0" y="1687"/>
                </a:lnTo>
                <a:lnTo>
                  <a:pt x="270" y="361"/>
                </a:lnTo>
                <a:lnTo>
                  <a:pt x="1693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37520" y="2852640"/>
            <a:ext cx="252360" cy="200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692600" y="4836960"/>
            <a:ext cx="2908440" cy="72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81080" y="3503520"/>
            <a:ext cx="397080" cy="20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033880" y="2873520"/>
            <a:ext cx="2347920" cy="606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143240" y="1300320"/>
            <a:ext cx="4105440" cy="5184720"/>
            <a:chOff x="4143240" y="1300320"/>
            <a:chExt cx="4105440" cy="5184720"/>
          </a:xfrm>
        </p:grpSpPr>
        <p:sp>
          <p:nvSpPr>
            <p:cNvPr id="80" name=""/>
            <p:cNvSpPr/>
            <p:nvPr/>
          </p:nvSpPr>
          <p:spPr>
            <a:xfrm flipH="1">
              <a:off x="4143240" y="1300320"/>
              <a:ext cx="216072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159240" y="1300320"/>
              <a:ext cx="14436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43240" y="5189400"/>
              <a:ext cx="2016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159240" y="4108320"/>
              <a:ext cx="208908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143240" y="4108320"/>
              <a:ext cx="410544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03960" y="1300320"/>
              <a:ext cx="194472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65240" y="297000"/>
            <a:ext cx="8670960" cy="703800"/>
          </a:xfrm>
          <a:prstGeom prst="rect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построения сечений ищем отрезки, по которым секущая плоскость пересекает каждую гра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41920" y="485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04480" y="419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64440" y="6318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2200" y="107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2040" y="293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12240" y="20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46440" y="5802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0680" y="1989000"/>
                <a:ext cx="2251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4160" y="1362240"/>
                <a:ext cx="2251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09600" y="3246480"/>
                <a:ext cx="2251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002200" y="342756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84960" y="2800440"/>
            <a:ext cx="14472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5760" y="5479920"/>
            <a:ext cx="14436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7680" y="2543040"/>
                <a:ext cx="5108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28840" y="1928880"/>
            <a:ext cx="4415040" cy="2442960"/>
          </a:xfrm>
          <a:custGeom>
            <a:avLst/>
            <a:gdLst/>
            <a:ahLst/>
            <a:rect l="l" t="t" r="r" b="b"/>
            <a:pathLst>
              <a:path w="2781" h="1539">
                <a:moveTo>
                  <a:pt x="0" y="1359"/>
                </a:moveTo>
                <a:lnTo>
                  <a:pt x="369" y="288"/>
                </a:lnTo>
                <a:lnTo>
                  <a:pt x="2781" y="0"/>
                </a:lnTo>
                <a:lnTo>
                  <a:pt x="2241" y="1539"/>
                </a:lnTo>
                <a:lnTo>
                  <a:pt x="0" y="135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907240" y="1929960"/>
            <a:ext cx="857160" cy="2452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1057320"/>
            <a:ext cx="4695840" cy="33303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0" y="1057320"/>
            <a:ext cx="1440" cy="2482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892240" y="3557520"/>
            <a:ext cx="3849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044440" y="3575160"/>
            <a:ext cx="847800" cy="814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57920" y="4321080"/>
            <a:ext cx="114120" cy="114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96120" y="2787480"/>
            <a:ext cx="102960" cy="103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79880" y="2233440"/>
            <a:ext cx="122400" cy="106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4292640"/>
            <a:ext cx="501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0360" y="3143160"/>
            <a:ext cx="501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5440" y="3203640"/>
            <a:ext cx="503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6320" y="703440"/>
            <a:ext cx="653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4720" y="1415880"/>
            <a:ext cx="6541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260960"/>
            <a:ext cx="503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2637000"/>
            <a:ext cx="501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0" y="1989000"/>
            <a:ext cx="502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6560" y="1027080"/>
            <a:ext cx="653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8680" y="1633680"/>
            <a:ext cx="6541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99280" y="5032440"/>
                <a:ext cx="1979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C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281640" y="5773680"/>
                <a:ext cx="2016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C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H="1">
            <a:off x="2885760" y="1928880"/>
            <a:ext cx="3871800" cy="485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38560" y="2387520"/>
            <a:ext cx="582480" cy="1666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328840" y="4086360"/>
            <a:ext cx="3586320" cy="2570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280" y="3344760"/>
            <a:ext cx="8045280" cy="312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АЖ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сли секущая плоскость пересекает противоположные грани, то она пересекает их по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араллельны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резк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1640" y="26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907920"/>
            <a:ext cx="8064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снованием пирамиды является параллелограмм со сторонами 5м и 4м и меньшей диагональю 3м. Высота пирамиды проходит через точку пересечения диагоналей основания и равна2м. Найдите площадь поверхности пирамид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57240" y="62928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00280" y="486396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 flipV="1">
            <a:off x="946080" y="4874400"/>
            <a:ext cx="743760" cy="14295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131" name=""/>
          <p:cNvCxnSpPr>
            <a:stCxn id="128" idx="0"/>
            <a:endCxn id="129" idx="0"/>
          </p:cNvCxnSpPr>
          <p:nvPr/>
        </p:nvCxnSpPr>
        <p:spPr>
          <a:xfrm flipV="1">
            <a:off x="3776400" y="4882320"/>
            <a:ext cx="74340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 flipH="1">
            <a:off x="1692000" y="2689200"/>
            <a:ext cx="685800" cy="217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68400" y="2668680"/>
            <a:ext cx="1409760" cy="359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78160" y="2646360"/>
            <a:ext cx="2122560" cy="222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78160" y="2646360"/>
            <a:ext cx="1401840" cy="366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8" idx="0"/>
            <a:endCxn id="134" idx="0"/>
          </p:cNvCxnSpPr>
          <p:nvPr/>
        </p:nvCxnSpPr>
        <p:spPr>
          <a:xfrm flipV="1">
            <a:off x="956880" y="4887720"/>
            <a:ext cx="3544200" cy="138600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sp>
        <p:nvSpPr>
          <p:cNvPr id="137" name=""/>
          <p:cNvSpPr/>
          <p:nvPr/>
        </p:nvSpPr>
        <p:spPr>
          <a:xfrm>
            <a:off x="1689120" y="4873680"/>
            <a:ext cx="2076480" cy="139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720" y="615312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79800" y="63579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40320" y="4475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2600" y="441000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55840" y="230184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4280" y="633564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63374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8680" y="51735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09840" y="2797200"/>
            <a:ext cx="301680" cy="27748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932360" y="3141720"/>
            <a:ext cx="2808360" cy="1439640"/>
          </a:xfrm>
          <a:custGeom>
            <a:avLst/>
            <a:gdLst/>
            <a:ahLst/>
            <a:rect l="l" t="t" r="r" b="b"/>
            <a:pathLst>
              <a:path w="1769" h="907">
                <a:moveTo>
                  <a:pt x="45" y="861"/>
                </a:moveTo>
                <a:lnTo>
                  <a:pt x="453" y="0"/>
                </a:lnTo>
                <a:lnTo>
                  <a:pt x="1769" y="907"/>
                </a:lnTo>
                <a:lnTo>
                  <a:pt x="0" y="907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00080" y="27936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6200" y="741240"/>
            <a:ext cx="534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ый (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го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авен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484280"/>
            <a:ext cx="4668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ы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я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АВС, следов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по теореме о трех перпендикуляр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о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∆M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8200" y="3421080"/>
            <a:ext cx="3914640" cy="368280"/>
            <a:chOff x="538200" y="3421080"/>
            <a:chExt cx="3914640" cy="368280"/>
          </a:xfrm>
        </p:grpSpPr>
        <p:sp>
          <p:nvSpPr>
            <p:cNvPr id="152" name=""/>
            <p:cNvSpPr/>
            <p:nvPr/>
          </p:nvSpPr>
          <p:spPr>
            <a:xfrm>
              <a:off x="538200" y="3421080"/>
              <a:ext cx="39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∆MDO: MD=√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1,5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13000" y="3487680"/>
              <a:ext cx="74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38200" y="3754440"/>
            <a:ext cx="4186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∆ADB: D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пендикулярны, рассмотри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DK=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D,DK=2,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7880" y="4646520"/>
            <a:ext cx="400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23880" y="5432400"/>
            <a:ext cx="5313240" cy="1315080"/>
            <a:chOff x="623880" y="5432400"/>
            <a:chExt cx="5313240" cy="1315080"/>
          </a:xfrm>
        </p:grpSpPr>
        <p:sp>
          <p:nvSpPr>
            <p:cNvPr id="157" name=""/>
            <p:cNvSpPr/>
            <p:nvPr/>
          </p:nvSpPr>
          <p:spPr>
            <a:xfrm>
              <a:off x="623880" y="5432400"/>
              <a:ext cx="531324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бок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 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AM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AM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2,5+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·0,4·√34=10+2 √34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ос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=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пи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(22+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√3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м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41800" y="548640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38720" y="5486400"/>
              <a:ext cx="2160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22480" y="6315120"/>
              <a:ext cx="2588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93640" y="4765680"/>
            <a:ext cx="4550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F: OF║DK, OF= ½DK, OF= 1,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=√M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O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,4√34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7480" y="5046840"/>
            <a:ext cx="101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95480" y="5048280"/>
            <a:ext cx="2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1440" y="455436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94480" y="312588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/>
          <p:nvPr/>
        </p:nvCxnSpPr>
        <p:spPr>
          <a:xfrm flipV="1">
            <a:off x="4940280" y="3136680"/>
            <a:ext cx="743760" cy="142920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167" name=""/>
          <p:cNvCxnSpPr>
            <a:stCxn id="164" idx="0"/>
            <a:endCxn id="165" idx="0"/>
          </p:cNvCxnSpPr>
          <p:nvPr/>
        </p:nvCxnSpPr>
        <p:spPr>
          <a:xfrm flipV="1">
            <a:off x="7770600" y="3144600"/>
            <a:ext cx="743400" cy="1429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8" name=""/>
          <p:cNvSpPr/>
          <p:nvPr/>
        </p:nvSpPr>
        <p:spPr>
          <a:xfrm flipH="1">
            <a:off x="5686200" y="950760"/>
            <a:ext cx="685800" cy="217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962600" y="930240"/>
            <a:ext cx="1409760" cy="359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907920"/>
            <a:ext cx="2122200" cy="222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907920"/>
            <a:ext cx="1401480" cy="366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64" idx="0"/>
            <a:endCxn id="170" idx="0"/>
          </p:cNvCxnSpPr>
          <p:nvPr/>
        </p:nvCxnSpPr>
        <p:spPr>
          <a:xfrm flipV="1">
            <a:off x="4951440" y="3149280"/>
            <a:ext cx="3543840" cy="13867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5683320" y="3135240"/>
            <a:ext cx="2076480" cy="139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441468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74000" y="461952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4520" y="2736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76800" y="26719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50040" y="56340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458136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8560" y="45990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62880" y="34354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2360" y="981000"/>
            <a:ext cx="301320" cy="27748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003640" y="3141360"/>
            <a:ext cx="720720" cy="136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680080" y="3106440"/>
            <a:ext cx="1008000" cy="718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724360" y="981000"/>
            <a:ext cx="648000" cy="216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981000"/>
            <a:ext cx="935280" cy="2808360"/>
          </a:xfrm>
          <a:custGeom>
            <a:avLst/>
            <a:gdLst/>
            <a:ahLst/>
            <a:rect l="l" t="t" r="r" b="b"/>
            <a:pathLst>
              <a:path w="589" h="1769">
                <a:moveTo>
                  <a:pt x="0" y="1361"/>
                </a:moveTo>
                <a:lnTo>
                  <a:pt x="408" y="0"/>
                </a:lnTo>
                <a:lnTo>
                  <a:pt x="589" y="1769"/>
                </a:lnTo>
                <a:lnTo>
                  <a:pt x="0" y="136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219640" y="3213000"/>
            <a:ext cx="50472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443640" y="3860640"/>
            <a:ext cx="21600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981000"/>
            <a:ext cx="71280" cy="35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907920"/>
            <a:ext cx="287280" cy="3673440"/>
          </a:xfrm>
          <a:custGeom>
            <a:avLst/>
            <a:gdLst/>
            <a:ahLst/>
            <a:rect l="l" t="t" r="r" b="b"/>
            <a:pathLst>
              <a:path w="181" h="2314">
                <a:moveTo>
                  <a:pt x="181" y="1815"/>
                </a:moveTo>
                <a:lnTo>
                  <a:pt x="45" y="2314"/>
                </a:lnTo>
                <a:lnTo>
                  <a:pt x="0" y="0"/>
                </a:lnTo>
                <a:lnTo>
                  <a:pt x="181" y="1860"/>
                </a:lnTo>
                <a:lnTo>
                  <a:pt x="136" y="1815"/>
                </a:lnTo>
                <a:lnTo>
                  <a:pt x="181" y="18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9040" y="212760"/>
            <a:ext cx="7056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Задача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нованием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АВС, у которого АВ=АС=13см, ВС=10см. Реб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пендикулярно к плоскости основания и равно 9см. Найти площадь боковой поверхности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98680" y="2023920"/>
            <a:ext cx="0" cy="281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8400" y="4849920"/>
            <a:ext cx="3517560" cy="11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87520" y="2000160"/>
            <a:ext cx="3540240" cy="285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87520" y="4830840"/>
            <a:ext cx="28512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238360" y="4862520"/>
            <a:ext cx="677880" cy="140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87520" y="1990800"/>
            <a:ext cx="2840040" cy="427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90800" y="473400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75240" y="615312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91120" y="4668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63840" y="170964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22280" y="139680"/>
            <a:ext cx="23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1314360"/>
            <a:ext cx="0" cy="281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81360" y="4140360"/>
            <a:ext cx="3517920" cy="10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60840" y="1290600"/>
            <a:ext cx="3540240" cy="285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60840" y="4121280"/>
            <a:ext cx="28512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411680" y="4152960"/>
            <a:ext cx="677880" cy="140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60840" y="1281240"/>
            <a:ext cx="2840040" cy="427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4120" y="402444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164440" y="3959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7160" y="100008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54880" y="55926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4840" y="849240"/>
            <a:ext cx="43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Проведем АК перпендикулярно 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03680" y="4130640"/>
            <a:ext cx="3164040" cy="731880"/>
          </a:xfrm>
          <a:prstGeom prst="line">
            <a:avLst/>
          </a:prstGeom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443720" y="4808520"/>
            <a:ext cx="6516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27880" y="4954680"/>
            <a:ext cx="25884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96240" y="48625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6520" y="1333440"/>
            <a:ext cx="39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пендикулярны (по теореме о трех перпендикулярах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26000" y="1324080"/>
            <a:ext cx="3141720" cy="35607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91400" y="4506840"/>
            <a:ext cx="16200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596000" y="4506840"/>
            <a:ext cx="8388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8200" y="2452680"/>
            <a:ext cx="399096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АВК: АК = √АВ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√144=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K=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)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B = ADC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двум катет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 = 192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00160" y="251784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87720" y="252720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92200" y="31284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0720" y="795240"/>
            <a:ext cx="80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те площадь боковой поверхности правильной шестиугольной пирамиды, если сторона ее основания равна а, а площадь боковой грани равна площади сечения, проведенного через вершину пирамиды и большую диагональ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4720" y="2301840"/>
            <a:ext cx="1797120" cy="3581280"/>
          </a:xfrm>
          <a:custGeom>
            <a:avLst/>
            <a:gdLst/>
            <a:ahLst/>
            <a:rect l="l" t="t" r="r" b="b"/>
            <a:pathLst>
              <a:path w="1132" h="2256">
                <a:moveTo>
                  <a:pt x="0" y="2256"/>
                </a:moveTo>
                <a:lnTo>
                  <a:pt x="603" y="0"/>
                </a:lnTo>
                <a:lnTo>
                  <a:pt x="1132" y="1369"/>
                </a:lnTo>
                <a:lnTo>
                  <a:pt x="0" y="225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689360" y="2301840"/>
            <a:ext cx="2894040" cy="3603600"/>
            <a:chOff x="4689360" y="2301840"/>
            <a:chExt cx="2894040" cy="3603600"/>
          </a:xfrm>
        </p:grpSpPr>
        <p:sp>
          <p:nvSpPr>
            <p:cNvPr id="229" name=""/>
            <p:cNvSpPr/>
            <p:nvPr/>
          </p:nvSpPr>
          <p:spPr>
            <a:xfrm flipH="1">
              <a:off x="4689360" y="2301840"/>
              <a:ext cx="146376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41960" y="2301840"/>
              <a:ext cx="143028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0520" y="5184720"/>
              <a:ext cx="48420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64200" y="5894280"/>
              <a:ext cx="140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538680" y="5162400"/>
              <a:ext cx="1044720" cy="7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721040" y="4464000"/>
              <a:ext cx="1281240" cy="698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02280" y="4476600"/>
              <a:ext cx="990720" cy="9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93000" y="4462560"/>
              <a:ext cx="547560" cy="71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013440" y="2313000"/>
              <a:ext cx="117360" cy="215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41960" y="2344680"/>
              <a:ext cx="851040" cy="21398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84360" y="2322360"/>
              <a:ext cx="957240" cy="358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1960" y="2344680"/>
              <a:ext cx="387360" cy="35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V="1">
            <a:off x="5205240" y="4474800"/>
            <a:ext cx="1743120" cy="140796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141600" y="2355840"/>
            <a:ext cx="11160" cy="270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776920" y="2333520"/>
            <a:ext cx="365040" cy="354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776920" y="5130360"/>
            <a:ext cx="353880" cy="763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22880" y="49798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94200" y="595944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03760" y="598968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75320" y="59166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45120" y="507672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05720" y="49910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42040" y="413064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9240" y="4216320"/>
            <a:ext cx="2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30800" y="183816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56280" y="577548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30200" y="19368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06520" y="878040"/>
                <a:ext cx="36097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68160" y="1535040"/>
                <a:ext cx="2714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о условию задачи: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77880" y="2252520"/>
                <a:ext cx="2847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ледовательно, 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rPr>
                        <m:lit/>
                        <m:nor/>
                      </m:rPr>
                      <m:t xml:space="preserve"> и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K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90400" y="2795760"/>
                <a:ext cx="1533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OK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O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892080" y="4395960"/>
                <a:ext cx="14097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326200" y="1279440"/>
            <a:ext cx="1796760" cy="3581640"/>
          </a:xfrm>
          <a:custGeom>
            <a:avLst/>
            <a:gdLst/>
            <a:ahLst/>
            <a:rect l="l" t="t" r="r" b="b"/>
            <a:pathLst>
              <a:path w="1132" h="2256">
                <a:moveTo>
                  <a:pt x="0" y="2256"/>
                </a:moveTo>
                <a:lnTo>
                  <a:pt x="603" y="0"/>
                </a:lnTo>
                <a:lnTo>
                  <a:pt x="1132" y="1369"/>
                </a:lnTo>
                <a:lnTo>
                  <a:pt x="0" y="225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830840" y="1279440"/>
            <a:ext cx="2894040" cy="3603600"/>
            <a:chOff x="4830840" y="1279440"/>
            <a:chExt cx="2894040" cy="3603600"/>
          </a:xfrm>
        </p:grpSpPr>
        <p:sp>
          <p:nvSpPr>
            <p:cNvPr id="263" name=""/>
            <p:cNvSpPr/>
            <p:nvPr/>
          </p:nvSpPr>
          <p:spPr>
            <a:xfrm flipH="1">
              <a:off x="4830840" y="1279440"/>
              <a:ext cx="146376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83440" y="1279440"/>
              <a:ext cx="143028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42000" y="4162320"/>
              <a:ext cx="48420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05680" y="4871880"/>
              <a:ext cx="140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680160" y="4140000"/>
              <a:ext cx="1044720" cy="7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862520" y="3441600"/>
              <a:ext cx="1281240" cy="698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3760" y="3454200"/>
              <a:ext cx="990720" cy="9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34480" y="3440160"/>
              <a:ext cx="547560" cy="71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154920" y="1290600"/>
              <a:ext cx="117360" cy="215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83440" y="1322280"/>
              <a:ext cx="851040" cy="21398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325840" y="1299960"/>
              <a:ext cx="957240" cy="358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83440" y="1322280"/>
              <a:ext cx="387360" cy="35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flipV="1">
            <a:off x="5346720" y="3452760"/>
            <a:ext cx="1743120" cy="140832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283080" y="1333440"/>
            <a:ext cx="11160" cy="2710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917680" y="1311120"/>
            <a:ext cx="365400" cy="354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64000" y="39574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35680" y="493704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16800" y="48942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86600" y="40543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46840" y="39686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83520" y="310824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00720" y="3193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72280" y="81612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97760" y="475308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54600" y="497844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44400" y="3699000"/>
                <a:ext cx="2676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  <m:r>
                      <m:rPr>
                        <m:lit/>
                        <m:nor/>
                      </m:rPr>
                      <m:t xml:space="preserve">MOK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 flipV="1">
            <a:off x="5918040" y="4107960"/>
            <a:ext cx="354240" cy="763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26200" y="1322280"/>
            <a:ext cx="1365120" cy="3549600"/>
          </a:xfrm>
          <a:custGeom>
            <a:avLst/>
            <a:gdLst/>
            <a:ahLst/>
            <a:rect l="l" t="t" r="r" b="b"/>
            <a:pathLst>
              <a:path w="860" h="2236">
                <a:moveTo>
                  <a:pt x="0" y="2236"/>
                </a:moveTo>
                <a:lnTo>
                  <a:pt x="596" y="0"/>
                </a:lnTo>
                <a:lnTo>
                  <a:pt x="860" y="2236"/>
                </a:lnTo>
                <a:lnTo>
                  <a:pt x="0" y="2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13240" y="4121280"/>
            <a:ext cx="968400" cy="752400"/>
          </a:xfrm>
          <a:custGeom>
            <a:avLst/>
            <a:gdLst/>
            <a:ahLst/>
            <a:rect l="l" t="t" r="r" b="b"/>
            <a:pathLst>
              <a:path w="603" h="461">
                <a:moveTo>
                  <a:pt x="0" y="447"/>
                </a:moveTo>
                <a:lnTo>
                  <a:pt x="603" y="0"/>
                </a:lnTo>
                <a:lnTo>
                  <a:pt x="386" y="461"/>
                </a:lnTo>
                <a:lnTo>
                  <a:pt x="0" y="447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05440" y="1290600"/>
            <a:ext cx="366840" cy="3549600"/>
          </a:xfrm>
          <a:custGeom>
            <a:avLst/>
            <a:gdLst/>
            <a:ahLst/>
            <a:rect l="l" t="t" r="r" b="b"/>
            <a:pathLst>
              <a:path w="231" h="2236">
                <a:moveTo>
                  <a:pt x="0" y="2236"/>
                </a:moveTo>
                <a:lnTo>
                  <a:pt x="231" y="0"/>
                </a:lnTo>
                <a:lnTo>
                  <a:pt x="231" y="1776"/>
                </a:lnTo>
                <a:lnTo>
                  <a:pt x="0" y="223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0:01:50Z</dcterms:created>
  <dc:creator>Мигунова</dc:creator>
  <dc:description/>
  <dc:language>en-US</dc:language>
  <cp:lastModifiedBy>Мигунова</cp:lastModifiedBy>
  <dcterms:modified xsi:type="dcterms:W3CDTF">2008-04-18T11:58:47Z</dcterms:modified>
  <cp:revision>3</cp:revision>
  <dc:subject/>
  <dc:title>Слайд 1</dc:title>
</cp:coreProperties>
</file>