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CBEE-03CC-49EC-8421-DF3B066ED6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"/>
              </a:rPr>
              <a:t>Цель: з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акрепить знания по теме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Прогрессии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A33-94D7-44D8-A7DF-1A0E51E8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6D6-2739-4263-8A4B-2B624585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995-A1DD-4271-81B6-B8C2CA8F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6AB-6050-4A13-85BC-B4D8F68E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A321-FB62-4F4E-BD78-1295A45C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64D-032F-4980-9B64-3010F666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5786-7FAC-4EA4-9873-42DD2A6D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5CC1-8D3E-4636-AF94-FDB82FCB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0086-69F9-4BB7-BE0E-E94233D4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FE97-D1BA-46FD-B6BA-2D9D3695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71D8-E306-4BC4-868B-D70CE5C7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24D-ED2E-447D-9B73-C6D57A7C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DCD6-BBA5-4BA3-A871-5A8B9D9E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A913-3973-46BD-8863-760E4364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999B-C33A-4E52-BEEA-0B3C3A5A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533F-1F70-49C9-ACAC-0C6EFFD0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2245-AC4B-482C-863D-A221A400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272-97F2-46E8-9A78-610CF4C3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D81-7520-49FF-8E21-36224CEE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117-6571-4B54-9C5F-890B4D89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20F-4338-4E1C-9C02-3846ADF0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EBB-C95A-466C-AE70-7F0FBA91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746-9903-4BEC-945C-515715D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CFC-63CB-4A22-BC66-5122DD6B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99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DF0D-D715-4BFF-977B-FB8772983A8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198C-BDB0-487F-A8FE-31A8F5DB830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inep.ac.ru/About/Acru/Images/3075.jpe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4197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6666"/>
                </a:solidFill>
                <a:latin typeface="Verdana"/>
              </a:rPr>
              <a:t>     </a:t>
            </a:r>
            <a:endParaRPr b="1" lang="en-US" sz="5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7720" y="837720"/>
            <a:ext cx="7696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                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                                        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бобщающий урок по арифметической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еометрической прогрессии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рок алгебры в 9 классе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                                   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Учитель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Пахарева Вера Александровна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имер 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йти сумму двузначных натуральных чисе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ешение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581280" y="1587600"/>
                <a:ext cx="190512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590920" y="4038480"/>
                <a:ext cx="38098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ример 4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 геометрической прогрессии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; 3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йдите сумму первых 10 член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ешение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819520" y="3809880"/>
                <a:ext cx="350496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524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71640" y="476280"/>
            <a:ext cx="7129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амостоятельная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абот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Выполнив задания 1-4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вы сможете узнать автора строк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 rot="10800000">
            <a:off x="321840" y="16282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«Математика является самой древней из всех наук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вместе с тем она  остается вечно молодой»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1773360"/>
            <a:ext cx="417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« Что есть больше всего на свете? – Пространство. Что быстрее всего? – Ум. Что мудрее всего? – Время. Что приятнее всего? – Достичь желанного»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5280" y="3357720"/>
          <a:ext cx="2828880" cy="395280"/>
        </p:xfrm>
        <a:graphic>
          <a:graphicData uri="http://schemas.openxmlformats.org/drawingml/2006/table">
            <a:tbl>
              <a:tblPr/>
              <a:tblGrid>
                <a:gridCol w="471600"/>
                <a:gridCol w="471240"/>
                <a:gridCol w="471600"/>
                <a:gridCol w="471600"/>
                <a:gridCol w="471240"/>
                <a:gridCol w="47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643280" y="3357720"/>
          <a:ext cx="2357280" cy="395280"/>
        </p:xfrm>
        <a:graphic>
          <a:graphicData uri="http://schemas.openxmlformats.org/drawingml/2006/table">
            <a:tbl>
              <a:tblPr/>
              <a:tblGrid>
                <a:gridCol w="471600"/>
                <a:gridCol w="471240"/>
                <a:gridCol w="471600"/>
                <a:gridCol w="471600"/>
                <a:gridCol w="471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0" y="4365720"/>
          <a:ext cx="4067280" cy="687240"/>
        </p:xfrm>
        <a:graphic>
          <a:graphicData uri="http://schemas.openxmlformats.org/drawingml/2006/table">
            <a:tbl>
              <a:tblPr/>
              <a:tblGrid>
                <a:gridCol w="528480"/>
                <a:gridCol w="601920"/>
                <a:gridCol w="677880"/>
                <a:gridCol w="603000"/>
                <a:gridCol w="525600"/>
                <a:gridCol w="528480"/>
                <a:gridCol w="601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,8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34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0,7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172040" y="4365720"/>
          <a:ext cx="4971960" cy="669960"/>
        </p:xfrm>
        <a:graphic>
          <a:graphicData uri="http://schemas.openxmlformats.org/drawingml/2006/table">
            <a:tbl>
              <a:tblPr/>
              <a:tblGrid>
                <a:gridCol w="792000"/>
                <a:gridCol w="628560"/>
                <a:gridCol w="709920"/>
                <a:gridCol w="711000"/>
                <a:gridCol w="709560"/>
                <a:gridCol w="711360"/>
                <a:gridCol w="709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/17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5,7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3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508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4038480" y="1676520"/>
            <a:ext cx="0" cy="16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14800" y="1828800"/>
            <a:ext cx="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1752480"/>
            <a:ext cx="0" cy="259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1752480"/>
            <a:ext cx="0" cy="2438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24000" y="260280"/>
            <a:ext cx="8507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Самостоятельная работ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46520" y="765000"/>
            <a:ext cx="12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вариан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30880" y="7650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0400" y="114300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1) В арифметической прогрессии известны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27960" y="2590920"/>
            <a:ext cx="64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2) Найти разность арифметической прогрессии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если 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 rot="10800000">
            <a:off x="-360" y="3656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3) Первый член геометрической прогрессии равен 11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а знаменатель равен 2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400536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Первый член геометрической прогрессии равен 4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а знаменатель равен 2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80060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Найти сумму 5 первых членов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4) Найти сумму пяти членов геометрической прогрессии с положительными членами если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59280" y="4941720"/>
            <a:ext cx="38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Найти сумму семи первых членов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4) Найти сумму шести членов геометрической прогрессии с положительными членами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если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2133720"/>
            <a:ext cx="14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Найти 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6699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97000" y="2133720"/>
            <a:ext cx="133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Найти 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66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5240" y="1523880"/>
            <a:ext cx="1832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-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,2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d = 3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080" y="1557360"/>
            <a:ext cx="186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= -0,8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d = 4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0920" y="3068640"/>
            <a:ext cx="169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2, 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-5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08240" y="3200400"/>
            <a:ext cx="182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4, a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18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-1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6080" y="6308640"/>
            <a:ext cx="17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81, b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36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01400" y="6324480"/>
            <a:ext cx="151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4, b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1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1557360"/>
            <a:ext cx="0" cy="934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40360" y="3068640"/>
            <a:ext cx="0" cy="3529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24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533520"/>
            <a:ext cx="17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Ответ 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Келдыш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34120" y="53352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Ответ 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Фалес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2" name="" descr="Картинка 11 из 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523880"/>
            <a:ext cx="1968480" cy="2565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 "/>
          <p:cNvPicPr/>
          <p:nvPr/>
        </p:nvPicPr>
        <p:blipFill>
          <a:blip r:embed="rId3"/>
          <a:stretch/>
        </p:blipFill>
        <p:spPr>
          <a:xfrm>
            <a:off x="5105520" y="1600200"/>
            <a:ext cx="1650960" cy="20890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4495680"/>
            <a:ext cx="3352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</a:rPr>
              <a:t>Келдыш Мстислав Всеволодович (1911-1978)</a:t>
            </a:r>
            <a:r>
              <a:rPr b="1" lang="en-US" sz="1400" spc="-1" strike="noStrike">
                <a:solidFill>
                  <a:srgbClr val="006699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</a:rPr>
              <a:t>математик и механик.  Руководил рядом советских космических программ</a:t>
            </a:r>
            <a:r>
              <a:rPr b="1" lang="en-US" sz="1400" spc="-1" strike="noStrike">
                <a:solidFill>
                  <a:srgbClr val="006699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</a:rPr>
              <a:t>включая полеты человека в космос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4799880" y="4491360"/>
            <a:ext cx="2971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Times New Roman"/>
              </a:rPr>
              <a:t>Фалес (625-547 г. до н. э. ) – древнегреческий мыслитель</a:t>
            </a:r>
            <a:r>
              <a:rPr b="1" lang="en-US" sz="14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</a:rPr>
              <a:t> родоначальник античной философии и науки</a:t>
            </a:r>
            <a:r>
              <a:rPr b="1" lang="en-US" sz="14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1" lang="ru-RU" sz="1400" spc="-1" strike="noStrike">
                <a:solidFill>
                  <a:srgbClr val="006699"/>
                </a:solidFill>
                <a:latin typeface="Times New Roman"/>
              </a:rPr>
              <a:t> основатель милетской школы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>
            <a:hlinkClick r:id="rId4" action="ppaction://hlinksldjump"/>
          </p:cNvPr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547640" y="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2286000"/>
            <a:ext cx="57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По горизонтали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2895480"/>
            <a:ext cx="84247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а) количество нечетных чисел натурального ряда, начиная с 13, сумма которых равна 3213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в) сумма пяти первых членов геометрической прогрессии, четвертый член которой равен 3, а седьмой равен 1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/9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д)сумма первых шести положительных членов арифметической прогрессии -127; -119 …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е) третий член геометрической прогрессии, у которой первый член равен 5, а знаменатель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q 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равен 10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ж) сумма -13 + ( -9 ) + ( -5 ) + … + 63, если ее слагаемые – последовательные члены арифметической прогрессии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286000" y="685800"/>
          <a:ext cx="4724280" cy="1552320"/>
        </p:xfrm>
        <a:graphic>
          <a:graphicData uri="http://schemas.openxmlformats.org/drawingml/2006/table">
            <a:tbl>
              <a:tblPr/>
              <a:tblGrid>
                <a:gridCol w="680760"/>
                <a:gridCol w="682560"/>
                <a:gridCol w="684360"/>
                <a:gridCol w="684000"/>
                <a:gridCol w="682920"/>
                <a:gridCol w="626760"/>
                <a:gridCol w="68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flipH="1">
            <a:off x="1295280" y="0"/>
            <a:ext cx="63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2666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По вертикали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3505320"/>
            <a:ext cx="8839080" cy="33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а) сумма всех двузначных чисел, кратных 9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б) удвоенный двадцать первый член арифметической прогрессии, у которой первый член равен -5, а разность 3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) шестой член последовательности, которая задана формулой а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Arial"/>
              </a:rPr>
              <a:t>n+1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=3*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*(2*n+1)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г) разность арифметической прогрессии, если а</a:t>
            </a:r>
            <a:r>
              <a:rPr b="0" lang="ru-RU" sz="2400" spc="-1" strike="noStrike" baseline="-25000">
                <a:solidFill>
                  <a:srgbClr val="006699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= 4, а</a:t>
            </a:r>
            <a:r>
              <a:rPr b="0" lang="ru-RU" sz="2400" spc="-1" strike="noStrike" baseline="-25000">
                <a:solidFill>
                  <a:srgbClr val="006699"/>
                </a:solidFill>
                <a:latin typeface="Arial"/>
              </a:rPr>
              <a:t>14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= 121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219320" y="838080"/>
          <a:ext cx="5943600" cy="1552680"/>
        </p:xfrm>
        <a:graphic>
          <a:graphicData uri="http://schemas.openxmlformats.org/drawingml/2006/table">
            <a:tbl>
              <a:tblPr/>
              <a:tblGrid>
                <a:gridCol w="857160"/>
                <a:gridCol w="860400"/>
                <a:gridCol w="857160"/>
                <a:gridCol w="860400"/>
                <a:gridCol w="860400"/>
                <a:gridCol w="789120"/>
                <a:gridCol w="85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8534520" y="76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19320" y="838080"/>
          <a:ext cx="5943600" cy="1552680"/>
        </p:xfrm>
        <a:graphic>
          <a:graphicData uri="http://schemas.openxmlformats.org/drawingml/2006/table">
            <a:tbl>
              <a:tblPr/>
              <a:tblGrid>
                <a:gridCol w="857160"/>
                <a:gridCol w="860400"/>
                <a:gridCol w="857160"/>
                <a:gridCol w="860400"/>
                <a:gridCol w="860400"/>
                <a:gridCol w="789120"/>
                <a:gridCol w="85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0400"/>
            <a:ext cx="82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Verdana"/>
              </a:rPr>
              <a:t>Конец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127160" y="380880"/>
            <a:ext cx="6797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6600" spc="-1" strike="noStrike">
                <a:solidFill>
                  <a:srgbClr val="3399ff"/>
                </a:solidFill>
                <a:latin typeface="Times New Roman"/>
              </a:rPr>
              <a:t>Желаю успеха!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767680" y="225360"/>
            <a:ext cx="368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990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0" lang="en-US" sz="40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Определения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40384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17524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2)</a:t>
            </a:r>
            <a:r>
              <a:rPr b="0" lang="en-US" sz="40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Формулы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64560" y="2438280"/>
            <a:ext cx="45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3)</a:t>
            </a:r>
            <a:r>
              <a:rPr b="0" lang="en-US" sz="4000" spc="-1" strike="noStrike" u="sng">
                <a:solidFill>
                  <a:srgbClr val="6600cc"/>
                </a:solidFill>
                <a:uFillTx/>
                <a:latin typeface="Times New Roman"/>
                <a:hlinkClick r:id="rId8" action="ppaction://hlinksldjump"/>
              </a:rPr>
              <a:t> 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9" action="ppaction://hlinksldjump"/>
              </a:rPr>
              <a:t>Устная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11" action="ppaction://hlinksldjump"/>
              </a:rPr>
              <a:t>работа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1240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12" action="ppaction://hlinksldjump"/>
              </a:rPr>
              <a:t>4)</a:t>
            </a:r>
            <a:r>
              <a:rPr b="0" lang="en-US" sz="4000" spc="-1" strike="noStrike" u="sng">
                <a:solidFill>
                  <a:srgbClr val="6600cc"/>
                </a:solidFill>
                <a:uFillTx/>
                <a:latin typeface="Times New Roman"/>
                <a:hlinkClick r:id="rId13" action="ppaction://hlinksldjump"/>
              </a:rPr>
              <a:t> 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14" action="ppaction://hlinksldjump"/>
              </a:rPr>
              <a:t>Примеры</a:t>
            </a: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 1</a:t>
            </a: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, 2, 3, 4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64560" y="3809880"/>
            <a:ext cx="672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15" action="ppaction://hlinksldjump"/>
              </a:rPr>
              <a:t>5)</a:t>
            </a:r>
            <a:r>
              <a:rPr b="0" lang="en-US" sz="4000" spc="-1" strike="noStrike" u="sng">
                <a:solidFill>
                  <a:srgbClr val="6600cc"/>
                </a:solidFill>
                <a:uFillTx/>
                <a:latin typeface="Times New Roman"/>
                <a:hlinkClick r:id="rId16" action="ppaction://hlinksldjump"/>
              </a:rPr>
              <a:t> 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17" action="ppaction://hlinksldjump"/>
              </a:rPr>
              <a:t>Самостоятельная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18" action="ppaction://hlinksldjump"/>
              </a:rPr>
              <a:t> 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19" action="ppaction://hlinksldjump"/>
              </a:rPr>
              <a:t>работа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64920" y="4495680"/>
            <a:ext cx="548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20" action="ppaction://hlinksldjump"/>
              </a:rPr>
              <a:t>6)</a:t>
            </a:r>
            <a:r>
              <a:rPr b="0" lang="en-US" sz="4000" spc="-1" strike="noStrike" u="sng">
                <a:solidFill>
                  <a:srgbClr val="6600cc"/>
                </a:solidFill>
                <a:uFillTx/>
                <a:latin typeface="Times New Roman"/>
                <a:hlinkClick r:id="rId21" action="ppaction://hlinksldjump"/>
              </a:rPr>
              <a:t> 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Times New Roman"/>
                <a:hlinkClick r:id="rId22" action="ppaction://hlinksldjump"/>
              </a:rPr>
              <a:t>Домашнее задание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flipH="1">
            <a:off x="2743200" y="2286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пределение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990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Числовая последовательность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каждый член которой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начиная со второго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равен предшествующему члену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0574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сложенному с одним и тем же числом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20574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умноженному на одно и то же число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971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называетс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886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арифметической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3886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геометрической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105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прогрессией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1828800"/>
            <a:ext cx="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1828800"/>
            <a:ext cx="0" cy="12193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3733920"/>
            <a:ext cx="0" cy="1218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)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Формул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Формулы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-ого члена арифметической прогрессии</a:t>
            </a: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6666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2.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умма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ервых членов арифметической прогрессии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3.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Формулы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-ого члена геометрической прогрессии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610320" y="256716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0400" y="1676520"/>
                <a:ext cx="195264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276720" y="3352680"/>
                <a:ext cx="198108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n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243240" y="5105520"/>
                <a:ext cx="1973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4.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умма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n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первых членов геометрической прогрессии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5.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умма бесконечно убывающей геометрической прогрессии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:           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124080" y="914400"/>
                <a:ext cx="1905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00400" y="2971800"/>
                <a:ext cx="1219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80880" y="5181480"/>
          <a:ext cx="8534520" cy="838440"/>
        </p:xfrm>
        <a:graphic>
          <a:graphicData uri="http://schemas.openxmlformats.org/drawingml/2006/table">
            <a:tbl>
              <a:tblPr/>
              <a:tblGrid>
                <a:gridCol w="4267440"/>
                <a:gridCol w="4267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3) Устно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Является ли конечная последовательность..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Если данная последовательность явля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то должны быть равны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второго и первого, третьего и второго, и т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.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д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.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 членов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62120" y="5486400"/>
                <a:ext cx="3124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,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8,5</m:t>
                        </m:r>
                        <m:r>
                          <m:t xml:space="preserve">=</m:t>
                        </m:r>
                        <m:r>
                          <m:t xml:space="preserve">5,5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1" name=""/>
          <p:cNvGraphicFramePr/>
          <p:nvPr/>
        </p:nvGraphicFramePr>
        <p:xfrm>
          <a:off x="152280" y="1295280"/>
          <a:ext cx="8839080" cy="760320"/>
        </p:xfrm>
        <a:graphic>
          <a:graphicData uri="http://schemas.openxmlformats.org/drawingml/2006/table">
            <a:tbl>
              <a:tblPr/>
              <a:tblGrid>
                <a:gridCol w="4419720"/>
                <a:gridCol w="4419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5;  7;  5,5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рифметической  прогрессией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,2;  -10,8;  16,2;  -24,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ческой прогрессией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52280" y="2819520"/>
          <a:ext cx="8763120" cy="457200"/>
        </p:xfrm>
        <a:graphic>
          <a:graphicData uri="http://schemas.openxmlformats.org/drawingml/2006/table">
            <a:tbl>
              <a:tblPr/>
              <a:tblGrid>
                <a:gridCol w="4419720"/>
                <a:gridCol w="4343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рифметической прогрессией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,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ческой прогрессией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,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04920" y="3962520"/>
          <a:ext cx="8458200" cy="395280"/>
        </p:xfrm>
        <a:graphic>
          <a:graphicData uri="http://schemas.openxmlformats.org/drawingml/2006/table">
            <a:tbl>
              <a:tblPr/>
              <a:tblGrid>
                <a:gridCol w="4267080"/>
                <a:gridCol w="4191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зност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астны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952880" y="5257800"/>
                <a:ext cx="32292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7,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</a:rPr>
              <a:t>Какие из следующих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</a:rPr>
              <a:t>последовательностей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</a:rPr>
              <a:t>являются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1295280"/>
          <a:ext cx="8001000" cy="33516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3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рифметическими  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грессиями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;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ческими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грессиями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;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95480" y="2666880"/>
                <a:ext cx="320040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80880" y="3124080"/>
          <a:ext cx="8458200" cy="685800"/>
        </p:xfrm>
        <a:graphic>
          <a:graphicData uri="http://schemas.openxmlformats.org/drawingml/2006/table">
            <a:tbl>
              <a:tblPr/>
              <a:tblGrid>
                <a:gridCol w="4114800"/>
                <a:gridCol w="4343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ример 1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                   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Известно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Найти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: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дставим данные в формулу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n-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го члена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8600" y="1523880"/>
          <a:ext cx="8686800" cy="1066680"/>
        </p:xfrm>
        <a:graphic>
          <a:graphicData uri="http://schemas.openxmlformats.org/drawingml/2006/table">
            <a:tbl>
              <a:tblPr/>
              <a:tblGrid>
                <a:gridCol w="4267080"/>
                <a:gridCol w="44197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                    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600200" y="1447920"/>
                <a:ext cx="1143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676520" y="29718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562720" y="1447920"/>
                <a:ext cx="15238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638680" y="3048120"/>
                <a:ext cx="457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914400" y="4952880"/>
                <a:ext cx="2895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∗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952880" y="4800600"/>
                <a:ext cx="32004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0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∗</m:t>
                            </m:r>
                            <m:r>
                              <m:t xml:space="preserve">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0" name=""/>
          <p:cNvGraphicFramePr/>
          <p:nvPr/>
        </p:nvGraphicFramePr>
        <p:xfrm>
          <a:off x="228600" y="4191120"/>
          <a:ext cx="8686440" cy="639720"/>
        </p:xfrm>
        <a:graphic>
          <a:graphicData uri="http://schemas.openxmlformats.org/drawingml/2006/table">
            <a:tbl>
              <a:tblPr/>
              <a:tblGrid>
                <a:gridCol w="4304880"/>
                <a:gridCol w="43815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рифметической прогрессии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ческой прогресс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ример 2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вестно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              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йти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разим из формулы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го члена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3505320"/>
          <a:ext cx="7543800" cy="2955960"/>
        </p:xfrm>
        <a:graphic>
          <a:graphicData uri="http://schemas.openxmlformats.org/drawingml/2006/table">
            <a:tbl>
              <a:tblPr/>
              <a:tblGrid>
                <a:gridCol w="3544920"/>
                <a:gridCol w="3998880"/>
              </a:tblGrid>
              <a:tr h="33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рифметической прогрессии 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зность 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: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ставим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: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                                  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                  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еометрической прогрессии знаменатель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q: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ставим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52280" y="2514600"/>
          <a:ext cx="8763120" cy="517680"/>
        </p:xfrm>
        <a:graphic>
          <a:graphicData uri="http://schemas.openxmlformats.org/drawingml/2006/table">
            <a:tbl>
              <a:tblPr/>
              <a:tblGrid>
                <a:gridCol w="4191120"/>
                <a:gridCol w="45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                    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28600" y="1219320"/>
          <a:ext cx="8686800" cy="761760"/>
        </p:xfrm>
        <a:graphic>
          <a:graphicData uri="http://schemas.openxmlformats.org/drawingml/2006/table">
            <a:tbl>
              <a:tblPr/>
              <a:tblGrid>
                <a:gridCol w="4114800"/>
                <a:gridCol w="4572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                    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676520" y="1219320"/>
                <a:ext cx="13716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410080" y="1066680"/>
                <a:ext cx="1143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2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2514600"/>
                <a:ext cx="6858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410080" y="25146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600200" y="434340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10080" y="4191120"/>
                <a:ext cx="990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143000" y="5715000"/>
                <a:ext cx="1905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952880" y="5638680"/>
                <a:ext cx="2438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83818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4:57:55Z</dcterms:created>
  <dc:creator>Ovs</dc:creator>
  <dc:description/>
  <dc:language>en-US</dc:language>
  <cp:lastModifiedBy>User</cp:lastModifiedBy>
  <dcterms:modified xsi:type="dcterms:W3CDTF">2007-07-08T11:12:43Z</dcterms:modified>
  <cp:revision>19</cp:revision>
  <dc:subject/>
  <dc:title>Slide 1</dc:title>
</cp:coreProperties>
</file>