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C4EF-60B3-41B4-B300-00904179E6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ТГАДАЙТЕ ЗАГАДКУ: «Летом в болоте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ы ее найдете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Зеленая квакушка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то это?» (ЛЯГУШКА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ТГАДАЙТЕ ЗАГАДКУ: На поляне возле ёлок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Дом построен из иголок.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За травой не виден он,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 жильцов в нём миллио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твет (Муравь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ТГАДАЙТЕ ЗАГАДКУ: «Всю ночь летает -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ышей добывает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 станет светло -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пать летит в дупло.» (СОВ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ьётся верёвка, на конце - голов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твет (Зме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ТГАДАЙТЕ ЗАГАДКУ: Была зелёной, маленькой,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том я стала аленькой.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На солнце почернела я,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 вот теперь я спела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твет (Ягода, ежеви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ТГАДАЙТЕ ЗАГАДКУ: Я капелька лета на тоненькой ножке,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летут для меня кузовки и лукошки.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то любит меня, тот и рад поклониться.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 имя дала мне родная землиц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твет (Земляни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ТГАДАЙТЕ ЗАГАДКУ: Эх, звоночки, синий цвет,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 язычком, а звону н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твет (Колокольчи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ТГАДАЙТЕ ЗАГАДКУ: «Нам запах свежести лесной приносит позднею весной цветок душистый нежный из кисти белоснежной» (Ландыш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ТГАДАЙТЕ ЗАГАДКУ: Мягок, а не пух, зелен, а не тра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твет (Мо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ТГАДАЙТЕ ЗАГАДКУ: Весной веселит, летом холодит,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сенью питает, зимой согрева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твет (Дере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ТГАДАЙТЕ ЗАГАДКУ: Этот гриб живет под елью, Под ее огромной тенью. Мудрый бородач-старик, Житель бора - ... (боровик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ТГАДАЙТЕ ЗАГАДКУ: Под листами на поляне В прятки девочки играли. Притаились три сестрички, Светло-желтые ... (лисич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ТГАДАЙТЕ ЗАГАДКУ: «В белой шляпе красивая дама, смотрит свысока – ручки в бока, богата да важна – никому не нужна. (Поганк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экологии: «Все связано со всем» (Барри Коммонер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ОВЕДИТЕ ЛИНИИ СВЯЗ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На третьем этапе учитель дает утверждение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«Лес – прочное природное образование. Леса существуют на земле сотни, тысячи лет. Ничто и никто не может уничтожить лес…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ак ли это? Кто может уничтожить лес?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Дети приходят к выводу, что  челове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к же должен вести себя человек в лесу, чтобы не навредить природ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кие вы знаете правил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Составляются правила поведения в лесу на основании опорных картинок или наоборот – по сформулированным правилам в группах рисуются картинки и вывешиваются на дос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смотрите на картинки и запишите в три столбика названия лесных обитате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Учитель во время презентации демонстрирует картинки с изображениями растений, грибов, животны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 просмотр каждой картинки отводится примерно 5 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На третьем этапе учитель дает утверждение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«Лес – прочное природное образование. Леса существуют на земле сотни, тысячи лет. Ничто и никто не может уничтожить лес…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ак ли это? Кто может уничтожить лес?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Дети приходят к выводу, что  челове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к же должен вести себя человек в лесу, чтобы не навредить природ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кие вы знаете правил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Составляются правила поведения в лесу на основании опорных картинок или наоборот – по сформулированным правилам в группах рисуются картинки и вывешиваются на дос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рый, страшный и зубаст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извел переполо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е зверята разбежали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пугал зверят тех..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0" spc="-1" strike="noStrike">
                <a:solidFill>
                  <a:srgbClr val="000000"/>
                </a:solidFill>
                <a:latin typeface="Arial"/>
              </a:rPr>
              <a:t>(ВОЛК)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ТГАДАЙТЕ ЗАГАДКУ:  «ПОД СОСНАМИ, ПОД ЕЛКАМИ БЕЖИТ КЛУБОК С ИГОЛКАМИ…» (ЁЖИ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ТГАДАЙТЕ ЗАГАДКУ: Самого не видно, а песню слышно;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Летит, пищит, случай не упустит: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ядет и укуси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твет (Комар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ТГАДАЙТЕ ЗАГАДКУ: «ЗА ДЕРЕВЬЯМИ, КУСТАМИ ПРОМЕЛЬКНУЛА БУДТО ПЛАМ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МЕЛЬКНУЛА, ПРОБЕЖАЛА – НЕТ НЕ ДЫМА, НИ ПОЖАРА!»   (ЛИС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Хитрая плутовка, рыжая головка, хвост пушистый - краса! А зовут её... Ответ (Лис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Хвост пушистый, мех золотистый, в лесу живёт, кур в деревне крадёт.   Ответ (Лис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ТГАДАЙТЕ ЗАГАДКУ: Вот этот случай очень редкий – на голове растут две ветки (Лос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7A55-7DF4-4076-BD0A-7FF5CAED1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0C40-0A30-4F45-9D4D-1BEFD1BB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6D68-3F04-4CB9-A19A-894437666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DFE8-F163-421C-9138-7BAB567BB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307C5-8454-4725-A1E4-EDA8A6D9D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AECE-AA04-4457-81A7-01A5A277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0720D-0114-40E2-8EF9-B368B836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4FC1-14E0-4A5A-88C2-2805B894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1469-31E3-42E1-964D-C902F459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41A9-196B-41CA-BEE7-D3E5B079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B4FA-D47D-4710-988F-2B6C110D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E086-971E-4A40-9944-5F36C81F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44D3-C504-48D1-B173-6DDE71D9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6F0F-6A0F-47DB-A281-18F81FF9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7663-9AE6-4902-9283-D575062D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6743B-524A-4127-BDBA-DC0B78DED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56DF-EC80-4DBD-A877-5508D41EA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3F06-6523-4884-9455-85BE7706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6CA5-E260-4074-8B4A-A31981FE4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FD96-FC85-41AB-A240-770F47E4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4F43-6B9A-493A-99E2-F6B9B91E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3F91-0121-4CBB-9952-39694A2E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B3A4-0C24-4DF5-BC91-3387F3E1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9851-12EC-410F-82CD-75BA335F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231A-3894-4E02-BC02-C26AD9BDBB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6925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71B3-A0EA-4491-A605-165FB79A57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8000" y="244080"/>
            <a:ext cx="6934320" cy="620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Мы сегодня входим в лес,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Полный сказок и чудес.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Кто в глуши его таится?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Что за зверь? Какая птица?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Все узнаем без утайки!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Разгадаем леса тайны!</a:t>
            </a:r>
            <a:endParaRPr b="1" lang="en-US" sz="32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8172360" y="26028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№ 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5350-6A55-45E5-9000-37FDA93B708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1280" y="244440"/>
            <a:ext cx="7921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 Black"/>
              </a:rPr>
              <a:t>Летом в болоте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Arial Black"/>
              </a:rPr>
              <a:t>Вы ее найдете.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Arial Black"/>
              </a:rPr>
              <a:t>Зеленая квакушка.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Arial Black"/>
              </a:rPr>
              <a:t>Кто это?...</a:t>
            </a:r>
            <a:endParaRPr b="1" lang="en-US" sz="1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6326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9640" y="1517760"/>
            <a:ext cx="8064720" cy="507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2242-E568-4430-8DC5-90FB0F6D6A8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Arial Black"/>
              </a:rPr>
              <a:t>На поляне возле ёлок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Arial Black"/>
              </a:rPr>
              <a:t>Дом построен из иголок.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Arial Black"/>
              </a:rPr>
              <a:t>За травой не виден он,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Arial Black"/>
              </a:rPr>
              <a:t>А жильцов в нём миллион.</a:t>
            </a:r>
            <a:r>
              <a:rPr b="0" lang="en-US" sz="4000" spc="-1" strike="noStrike">
                <a:solidFill>
                  <a:srgbClr val="ffffcc"/>
                </a:solidFill>
                <a:latin typeface="Arial Black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263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8101080" cy="475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65A5-70A5-44C3-A7E3-F4BA9F6110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64000" y="244440"/>
            <a:ext cx="3478320" cy="54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 Black"/>
              </a:rPr>
              <a:t>Всю ночь летает -</a:t>
            </a:r>
            <a:br>
              <a:rPr sz="1800"/>
            </a:br>
            <a:r>
              <a:rPr b="0" lang="en-US" sz="1800" spc="-1" strike="noStrike">
                <a:solidFill>
                  <a:srgbClr val="333300"/>
                </a:solidFill>
                <a:latin typeface="Arial Black"/>
              </a:rPr>
              <a:t>Мышей добывает.</a:t>
            </a:r>
            <a:br>
              <a:rPr sz="1800"/>
            </a:br>
            <a:r>
              <a:rPr b="0" lang="en-US" sz="1800" spc="-1" strike="noStrike">
                <a:solidFill>
                  <a:srgbClr val="333300"/>
                </a:solidFill>
                <a:latin typeface="Arial Black"/>
              </a:rPr>
              <a:t>А станет светло -</a:t>
            </a:r>
            <a:br>
              <a:rPr sz="1800"/>
            </a:br>
            <a:r>
              <a:rPr b="0" lang="en-US" sz="1800" spc="-1" strike="noStrike">
                <a:solidFill>
                  <a:srgbClr val="333300"/>
                </a:solidFill>
                <a:latin typeface="Arial Black"/>
              </a:rPr>
              <a:t>Спать летит в дупло</a:t>
            </a:r>
            <a:endParaRPr b="1" lang="en-US" sz="18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0364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27F1-BF7C-4513-B1D6-A4EB7BA16B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87280" y="244440"/>
            <a:ext cx="7056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 Black"/>
              </a:rPr>
              <a:t>Вьётся верёвка, на конце - головка.</a:t>
            </a:r>
            <a:endParaRPr b="1" lang="en-US" sz="1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979280" y="1904760"/>
            <a:ext cx="5329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16000" y="1484280"/>
            <a:ext cx="7164360" cy="511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9AC9-5D68-426C-8B91-EACE4C285F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844640"/>
            <a:ext cx="83851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Растения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FA13-D82C-4958-8C31-6B407EB293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71280" y="244440"/>
            <a:ext cx="7272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 Black"/>
              </a:rPr>
              <a:t>Была зелёной, маленькой,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Arial Black"/>
              </a:rPr>
              <a:t>Потом я стала аленькой.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Arial Black"/>
              </a:rPr>
              <a:t>На солнце почернела я,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Arial Black"/>
              </a:rPr>
              <a:t>И вот теперь я спелая. </a:t>
            </a:r>
            <a:br>
              <a:rPr sz="1800"/>
            </a:br>
            <a:endParaRPr b="1" lang="en-US" sz="18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308720" cy="522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36C1-C154-4CAA-A4F7-DABF525D7C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86920" y="244440"/>
            <a:ext cx="69850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 Black"/>
              </a:rPr>
              <a:t>Я капелька лета на тоненькой ножке,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Arial Black"/>
              </a:rPr>
              <a:t>Плетут для меня кузовки и лукошки.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Arial Black"/>
              </a:rPr>
              <a:t>Кто любит меня, тот и рад поклониться.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Arial Black"/>
              </a:rPr>
              <a:t>А имя дала мне родная землица. </a:t>
            </a:r>
            <a:br>
              <a:rPr sz="1800"/>
            </a:br>
            <a:endParaRPr b="1" lang="en-US" sz="18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116000" y="1538280"/>
            <a:ext cx="7093080" cy="505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0E67-13B8-4B99-8834-90C118A7BA2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16000" y="244440"/>
            <a:ext cx="69120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 Black"/>
              </a:rPr>
              <a:t>Эх, звоночки, синий цвет,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Arial Black"/>
              </a:rPr>
              <a:t>С язычком, а звону нет. </a:t>
            </a:r>
            <a:br>
              <a:rPr sz="1800"/>
            </a:br>
            <a:endParaRPr b="1" lang="en-US" sz="18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948360" cy="495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6921-7B3D-44CE-933E-3260239B61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76720" y="549360"/>
            <a:ext cx="374328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 Black"/>
              </a:rPr>
              <a:t>Нам запах свежести лесной приносит позднею весной цветок душистый нежный из кисти белоснежной</a:t>
            </a:r>
            <a:endParaRPr b="1" lang="en-US" sz="18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2436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CC21-F1E8-4124-BF2B-84F1DE99AB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244440"/>
            <a:ext cx="69850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Black"/>
              </a:rPr>
              <a:t>Мягок, а не пух, зелен, а не трава.</a:t>
            </a:r>
            <a:r>
              <a:rPr b="0" lang="en-US" sz="4400" spc="-1" strike="noStrike">
                <a:solidFill>
                  <a:srgbClr val="ffffcc"/>
                </a:solidFill>
                <a:latin typeface="Arial Black"/>
              </a:rPr>
              <a:t> </a:t>
            </a:r>
            <a:br>
              <a:rPr sz="4400"/>
            </a:b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1773360"/>
            <a:ext cx="6985080" cy="483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11F6-7EFC-49B0-A324-CA251B546BE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244440"/>
            <a:ext cx="79930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Лес как природное сообщество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порные понятия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животные (хищники, травоядные), растения, гриб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овые термины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родное сообщество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цепи пита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иды взаимосвязи между членами сообще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172360" y="26028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№ 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CC30-B3A0-4E9E-9B84-6EEEA46598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435280" y="259920"/>
            <a:ext cx="3313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Black"/>
              </a:rPr>
              <a:t>Весной веселит, летом холодит, 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Arial Black"/>
              </a:rPr>
              <a:t>Осенью питает, зимой согревает.</a:t>
            </a:r>
            <a:r>
              <a:rPr b="0" lang="en-US" sz="4400" spc="-1" strike="noStrike">
                <a:solidFill>
                  <a:srgbClr val="ffffcc"/>
                </a:solidFill>
                <a:latin typeface="Arial Black"/>
              </a:rPr>
              <a:t> </a:t>
            </a:r>
            <a:br>
              <a:rPr sz="4400"/>
            </a:b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418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8749-F7FE-4316-8A0B-BE98D9FCD7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915920"/>
            <a:ext cx="838512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Грибы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86D0-5AC6-4ABA-9464-D4D144C586B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6696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 Black"/>
              </a:rPr>
              <a:t>Этот гриб живет под елью,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Arial Black"/>
              </a:rPr>
              <a:t>Под ее огромной тенью.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Arial Black"/>
              </a:rPr>
              <a:t>Мудрый бородач-старик,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Arial Black"/>
              </a:rPr>
              <a:t>Житель бора - ...</a:t>
            </a:r>
            <a:endParaRPr b="1" lang="en-US" sz="18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332000" y="1552680"/>
            <a:ext cx="6696000" cy="504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1431-1C90-4452-AF58-A1F3B1946B8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99640" y="244440"/>
            <a:ext cx="7272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 Black"/>
              </a:rPr>
              <a:t>Под листами на поляне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Arial Black"/>
              </a:rPr>
              <a:t>В прятки девочки играли.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Arial Black"/>
              </a:rPr>
              <a:t>Притаились три сестрички,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Arial Black"/>
              </a:rPr>
              <a:t>Светло-желтые ...</a:t>
            </a:r>
            <a:endParaRPr b="1" lang="en-US" sz="18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272360" cy="489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E22C-8EC7-46FE-9E22-2744D89644C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219280" y="549360"/>
            <a:ext cx="3600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 Black"/>
              </a:rPr>
              <a:t>В белой шляпе красивая дама, </a:t>
            </a:r>
            <a:br>
              <a:rPr sz="1800"/>
            </a:br>
            <a:r>
              <a:rPr b="0" lang="en-US" sz="1800" spc="-1" strike="noStrike">
                <a:solidFill>
                  <a:srgbClr val="333300"/>
                </a:solidFill>
                <a:latin typeface="Arial Black"/>
              </a:rPr>
              <a:t>Смотрит свысока – ручки в бока, </a:t>
            </a:r>
            <a:br>
              <a:rPr sz="1800"/>
            </a:br>
            <a:r>
              <a:rPr b="0" lang="en-US" sz="1800" spc="-1" strike="noStrike">
                <a:solidFill>
                  <a:srgbClr val="333300"/>
                </a:solidFill>
                <a:latin typeface="Arial Black"/>
              </a:rPr>
              <a:t>Богата да важна – никому не нужна.</a:t>
            </a:r>
            <a:endParaRPr b="1" lang="en-US" sz="18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6872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EBA2-D37A-47D9-87D1-8051DD87AD72}" type="slidenum">
              <a:t>24</a:t>
            </a:fld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8520" y="1773360"/>
            <a:ext cx="770076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Второй этап   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 урока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12BC-C029-494A-B7B0-9668AB3EE0C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74883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ЛЕСНЫЕ ЦЕПОЧКИ</a:t>
            </a:r>
            <a:br>
              <a:rPr sz="4400"/>
            </a:b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6" name=""/>
          <p:cNvSpPr/>
          <p:nvPr/>
        </p:nvSpPr>
        <p:spPr>
          <a:xfrm>
            <a:off x="826920" y="2852640"/>
            <a:ext cx="2953080" cy="1008000"/>
          </a:xfrm>
          <a:prstGeom prst="rect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земляни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6920" y="5013360"/>
            <a:ext cx="2953080" cy="985680"/>
          </a:xfrm>
          <a:prstGeom prst="rect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лис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35640" y="2852640"/>
            <a:ext cx="2951280" cy="1008000"/>
          </a:xfrm>
          <a:prstGeom prst="rect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лизн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35640" y="5013360"/>
            <a:ext cx="2951280" cy="985680"/>
          </a:xfrm>
          <a:prstGeom prst="rect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ежи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780000" y="3141720"/>
            <a:ext cx="1655640" cy="503280"/>
          </a:xfrm>
          <a:prstGeom prst="leftArrow">
            <a:avLst>
              <a:gd name="adj1" fmla="val 50000"/>
              <a:gd name="adj2" fmla="val 82242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588000" y="3860640"/>
            <a:ext cx="576360" cy="1152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80000" y="5157720"/>
            <a:ext cx="1655640" cy="576360"/>
          </a:xfrm>
          <a:prstGeom prst="rightArrow">
            <a:avLst>
              <a:gd name="adj1" fmla="val 50000"/>
              <a:gd name="adj2" fmla="val 71814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172360" y="26028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№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BA04-F9E6-470B-BEFE-D196F4263FD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ЛЕСНЫЕ ЦЕПОЧКИ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187280" y="1905120"/>
          <a:ext cx="2592720" cy="4190760"/>
        </p:xfrm>
        <a:graphic>
          <a:graphicData uri="http://schemas.openxmlformats.org/drawingml/2006/table">
            <a:tbl>
              <a:tblPr/>
              <a:tblGrid>
                <a:gridCol w="2592720"/>
              </a:tblGrid>
              <a:tr h="13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уб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л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ба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5724360" y="1916280"/>
          <a:ext cx="2664000" cy="4190760"/>
        </p:xfrm>
        <a:graphic>
          <a:graphicData uri="http://schemas.openxmlformats.org/drawingml/2006/table">
            <a:tbl>
              <a:tblPr/>
              <a:tblGrid>
                <a:gridCol w="2664000"/>
              </a:tblGrid>
              <a:tr h="13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тица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риб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бочк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1403280" y="2133720"/>
            <a:ext cx="2162160" cy="1008000"/>
          </a:xfrm>
          <a:prstGeom prst="rect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ол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03280" y="3500280"/>
            <a:ext cx="2160720" cy="1008360"/>
          </a:xfrm>
          <a:prstGeom prst="rect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боч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4941720"/>
            <a:ext cx="2160720" cy="1008360"/>
          </a:xfrm>
          <a:prstGeom prst="rect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желуд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12000" y="2133720"/>
            <a:ext cx="2089080" cy="1008000"/>
          </a:xfrm>
          <a:prstGeom prst="rect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аба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12000" y="3500280"/>
            <a:ext cx="2089080" cy="1008360"/>
          </a:xfrm>
          <a:prstGeom prst="rect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тиц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12000" y="4941720"/>
            <a:ext cx="2089080" cy="1008360"/>
          </a:xfrm>
          <a:prstGeom prst="rect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цвет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146800" y="26028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№ 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6D34-74FE-4A11-B0F0-F9AFB9FFC9A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76360" y="244440"/>
            <a:ext cx="66960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Третий этап   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 урока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13C4-2B82-4488-8ADB-A6B198C9966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38512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 Black"/>
              </a:rPr>
              <a:t>Правила поведения в лесу: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9647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Не сбивай ногой даже несъедобные _______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и не только являются  лекарством для некоторых животных, но и участвуют в разложении растительных остатков, срастаются с _______ деревьев и помогают им в питании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Не лови и не уноси домой ________________________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Не разоряй ____________________________________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Самый страшный враг леса _____. После _______ лес будет медленно вымирать. Не уходите из леса, не затушив _______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Береги ______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148428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16360" y="270828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314172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64000" y="35733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19640" y="40053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80360" y="40053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68360" y="472428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68360" y="515772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172360" y="26028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№ 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CCF3-E374-4553-BB45-522F7AFEAA4E}" type="slidenum">
              <a:t>29</a:t>
            </a:fld>
          </a:p>
        </p:txBody>
      </p:sp>
    </p:spTree>
  </p:cSld>
  <p:transition>
    <p:cover dir="d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44280"/>
            <a:ext cx="83851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Первый этап урока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1654-6D29-41C8-9EA5-6914FA60F7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38512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 Black"/>
              </a:rPr>
              <a:t>Правила поведения в лесу: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9647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Не сбивай ногой даже несъедобны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иб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и не только являются  лекарством для некоторых животных, но и участвуют в разложении растительных остатков, срастаются 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рням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деревьев и помогают им в питании.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Не лови и не уноси домой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боч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Не разоряй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незда птиц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Самый страшный враг лес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гон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Посл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жар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лес будет медленно вымирать. Не уходите из леса, не затушив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сте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Берег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с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172360" y="26028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№ 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34EC-323E-490C-AECF-87E852946DC0}" type="slidenum">
              <a:t>30</a:t>
            </a:fld>
          </a:p>
        </p:txBody>
      </p:sp>
    </p:spTree>
  </p:cSld>
  <p:transition>
    <p:cover dir="d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915920"/>
            <a:ext cx="838512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Животные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D867-5EB5-49B1-AA77-39CDCC015F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8520" y="260280"/>
            <a:ext cx="77007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 Black"/>
              </a:rPr>
              <a:t>Серый, страшный и зубастый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Arial Black"/>
              </a:rPr>
              <a:t>Произвел переполох.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Arial Black"/>
              </a:rPr>
              <a:t>Все зверята разбежались.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Arial Black"/>
              </a:rPr>
              <a:t>Напугал зверят тех...</a:t>
            </a:r>
            <a:r>
              <a:rPr b="1" lang="en-US" sz="4000" spc="-1" strike="noStrike">
                <a:solidFill>
                  <a:srgbClr val="ffffcc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632720" cy="496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0E78-C83D-48C0-85DB-459922ADED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6920" y="244440"/>
            <a:ext cx="6697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 Black"/>
              </a:rPr>
              <a:t>ПОД СОСНАМИ, ПОД ЕЛКАМИ БЕЖИТ КЛУБОК С ИГОЛКАМИ…</a:t>
            </a:r>
            <a:endParaRPr b="1" lang="en-US" sz="1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195640" y="2565000"/>
            <a:ext cx="525600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129440" cy="505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183D-468C-41C2-A7EE-6E5F1CFD75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71640" y="244440"/>
            <a:ext cx="7200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 Black"/>
              </a:rPr>
              <a:t>Самого не видно, а песню слышно;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Arial Black"/>
              </a:rPr>
              <a:t>Летит, пищит, случай не упустит: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Arial Black"/>
              </a:rPr>
              <a:t>Сядет и укусит.</a:t>
            </a:r>
            <a:r>
              <a:rPr b="0" lang="en-US" sz="1800" spc="-1" strike="noStrike">
                <a:solidFill>
                  <a:srgbClr val="ffffcc"/>
                </a:solidFill>
                <a:latin typeface="Arial Black"/>
              </a:rPr>
              <a:t> </a:t>
            </a:r>
            <a:br>
              <a:rPr sz="1800"/>
            </a:br>
            <a:endParaRPr b="1" lang="en-US" sz="18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343640" cy="501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85E2-C9A0-4945-B6AB-DD5E326EA0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5640" y="1052280"/>
            <a:ext cx="64292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 Black"/>
              </a:rPr>
              <a:t>Хитрая плутовка, рыжая головка, хвост пушистый - краса! А зовут её...</a:t>
            </a:r>
            <a:endParaRPr b="1" lang="en-US" sz="18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55640" y="2492280"/>
            <a:ext cx="7848720" cy="36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6D87-99EE-470F-97D2-6D671BB65D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87280" y="244440"/>
            <a:ext cx="6840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 Black"/>
              </a:rPr>
              <a:t>Вот этот случай очень редкий – на голове растут две ветки…</a:t>
            </a:r>
            <a:endParaRPr b="1" lang="en-US" sz="1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68000" y="1904760"/>
            <a:ext cx="4751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6875640" cy="489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BE5A-F75A-473B-B423-704E8F6C30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5T09:39:32Z</dcterms:created>
  <dc:creator>Прокопенко</dc:creator>
  <dc:description/>
  <dc:language>en-US</dc:language>
  <cp:lastModifiedBy>User</cp:lastModifiedBy>
  <dcterms:modified xsi:type="dcterms:W3CDTF">2007-07-08T11:36:46Z</dcterms:modified>
  <cp:revision>85</cp:revision>
  <dc:subject/>
  <dc:title>Слайд 1</dc:title>
</cp:coreProperties>
</file>